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2999-6FCC-4263-B01F-F310E896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6EFC-D3A3-4878-AB9A-620D90BC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55DB-9FCE-46F0-808A-0CAF1BB2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86DD-1350-4FCA-8412-BE7EACB8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29AB-4276-4F4B-A441-AB4309DF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ED61-F73F-4032-B84F-78DBA211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7FBE-79D0-444F-BEEB-73C2F7EC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63B2-0D4F-4335-AC49-DD258F75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1B0A-B6F9-49F8-8B0F-8F0F9283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52EE-5C6C-4799-BE76-3E36A44B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E243-9685-447F-84A3-B0B1C219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33A5-524B-4628-BF7D-F430602D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Slide </a:t>
            </a:r>
            <a:fld id="{F265DAFB-D42B-4ECE-9534-82D63266445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1E14-3E09-41C5-8463-66E6D5F4BED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60280" y="1619280"/>
            <a:ext cx="6337440" cy="71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00"/>
                </a:solidFill>
                <a:latin typeface="Calibri"/>
              </a:rPr>
              <a:t>GRIFFIN LAN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en-GB" sz="4800" spc="-1" strike="noStrike">
                <a:solidFill>
                  <a:srgbClr val="cc0000"/>
                </a:solidFill>
                <a:latin typeface="Calibri"/>
              </a:rPr>
              <a:t>LEVEL CROSS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Deliberate misuse and accidental human error by pedestrians and cyclists using this crossing have occurred which could have resulted in a serious incident with a trai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Network Rail has closed the path between the railway boundary fences until further notic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n alternative route is available for use by way of the Griffin Lane railway overbrid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closure will take effect immediately and will be until further notic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lease contact Network Rail Helpline 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03457 11 41 41 for further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81000" y="154080"/>
            <a:ext cx="6696000" cy="8835840"/>
          </a:xfrm>
          <a:prstGeom prst="rect">
            <a:avLst/>
          </a:prstGeom>
          <a:noFill/>
          <a:ln w="127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nwr"/>
          <p:cNvPicPr/>
          <p:nvPr/>
        </p:nvPicPr>
        <p:blipFill>
          <a:blip r:embed="rId1"/>
          <a:stretch/>
        </p:blipFill>
        <p:spPr>
          <a:xfrm>
            <a:off x="333360" y="560520"/>
            <a:ext cx="149544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15:12:36Z</dcterms:created>
  <dc:creator>PColton</dc:creator>
  <dc:description/>
  <dc:language>en-US</dc:language>
  <cp:lastModifiedBy>Parish Ben</cp:lastModifiedBy>
  <dcterms:modified xsi:type="dcterms:W3CDTF">2016-12-20T09:07:09Z</dcterms:modified>
  <cp:revision>32</cp:revision>
  <dc:subject>Netwrok Rail Standard</dc:subject>
  <dc:title>Slide 1</dc:title>
</cp:coreProperties>
</file>