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EFB-C9A6-4FAB-8A6F-37634C4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14-0546-4F95-901E-A96439C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176-C220-44FF-811C-B5C25373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CDA-7DAD-4689-8AC2-FE17D8B2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A968-3DA7-4E84-B447-9204187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507B-FC34-4F59-9998-CBB05993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598A-7E26-4B77-962A-7CF5C94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B553-4DBC-492B-8DE0-8768608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36F9-6EDA-402E-A221-D04AE5F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9BCA-F155-42AC-A0AA-4979628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4C7-A079-4D16-ACC2-42F1332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54F-8038-472E-8CF0-8E2A70D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4450-3786-42E9-A626-AFAC5CD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817-1802-4EFF-8EA6-D585DF9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3AF4-75EB-4328-BB34-3CE2C05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8D8-42C3-463E-AB00-2F9273F8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66D-CD9B-4607-87F6-C2A44ECA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E4E0-8E43-414A-BD4C-2836E486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5D1E-D1B6-4388-BED9-738513F8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95C3-7CAB-411F-914A-5754BDD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66BB-A9C4-4D3D-ADA5-195D8971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FB63-2018-432B-B97E-45E9735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A1C-5C5C-4E2A-87DE-B5CE6273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3C7A-9906-4286-80CE-E7C8D033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124A-DE3B-441A-9BD2-289C10F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6F87-DA0F-49D5-B61F-81CA04A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2CE5-9E47-471B-8C2B-D53D384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2BCE-5808-4ED5-896E-1B2CF8B3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671B-996E-4623-9F37-50CFA1BD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45DF-DC35-43C3-ADCE-4FDC6404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3B657-10CC-439F-8F41-C9BB636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CA46B-11D2-4C70-BCF3-29E65F0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59323-0A10-4AAB-B34E-3B0A9DA8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BCA-328A-460C-B725-CD9E276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B297-C096-493E-861F-6225537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239C5-75AE-4E45-8516-C567094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54F17-A25A-4534-B07A-3BE09EE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BED5E-9C04-4D93-A568-5B4081D9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87BB6-76C4-4378-B8E5-9ED621B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C5BBF-59C6-49E8-A422-F167F9A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9E9F7-2453-4B96-A88E-A995BFE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986BE-1F52-43F6-83A3-E26935F4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BE5C3-E9DE-4A1E-9721-AFDCEA0C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355-7067-4166-BBC2-B9E24AE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965-48E6-4C1E-AC47-F0456716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813-7D64-4102-AD3D-4FBA513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DED-47ED-4C09-B58D-4C79895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37E-FDC1-41E0-B0E1-F3B5D9C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9fbe"/>
              </a:gs>
              <a:gs pos="100000">
                <a:srgbClr val="0051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B14-1D1E-4A66-A3D7-7275E983D2F7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60" y="450720"/>
            <a:ext cx="8920080" cy="6416640"/>
            <a:chOff x="-9360" y="450720"/>
            <a:chExt cx="8920080" cy="6416640"/>
          </a:xfrm>
        </p:grpSpPr>
        <p:sp>
          <p:nvSpPr>
            <p:cNvPr id="44" name=""/>
            <p:cNvSpPr/>
            <p:nvPr/>
          </p:nvSpPr>
          <p:spPr>
            <a:xfrm>
              <a:off x="-7920" y="450720"/>
              <a:ext cx="8918640" cy="6415200"/>
            </a:xfrm>
            <a:custGeom>
              <a:avLst/>
              <a:gdLst/>
              <a:ahLst/>
              <a:rect l="l" t="t" r="r" b="b"/>
              <a:pathLst>
                <a:path w="5618" h="4041">
                  <a:moveTo>
                    <a:pt x="0" y="1"/>
                  </a:moveTo>
                  <a:lnTo>
                    <a:pt x="5618" y="0"/>
                  </a:lnTo>
                  <a:lnTo>
                    <a:pt x="4763" y="4041"/>
                  </a:lnTo>
                  <a:lnTo>
                    <a:pt x="5" y="4041"/>
                  </a:lnTo>
                  <a:lnTo>
                    <a:pt x="0" y="1"/>
                  </a:lnTo>
                  <a:close/>
                </a:path>
              </a:pathLst>
            </a:custGeom>
            <a:gradFill rotWithShape="0">
              <a:gsLst>
                <a:gs pos="0">
                  <a:srgbClr val="3a9fbe"/>
                </a:gs>
                <a:gs pos="100000">
                  <a:srgbClr val="0051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7920" y="463680"/>
              <a:ext cx="8880480" cy="9223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6480" y="463320"/>
              <a:ext cx="8881920" cy="187308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-6480" y="463320"/>
              <a:ext cx="8894880" cy="287316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0" y="476280"/>
              <a:ext cx="8880480" cy="39463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-9360" y="469440"/>
              <a:ext cx="8878680" cy="51181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88920" y="482760"/>
              <a:ext cx="8771040" cy="63799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779480" y="463680"/>
              <a:ext cx="7108920" cy="640368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143160" y="487440"/>
              <a:ext cx="5722920" cy="63799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249800" y="463320"/>
              <a:ext cx="4638600" cy="639108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26120" y="463680"/>
              <a:ext cx="3662280" cy="638640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75360" y="463680"/>
              <a:ext cx="2813040" cy="637992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850080" y="463680"/>
              <a:ext cx="2038320" cy="6387840"/>
            </a:xfrm>
            <a:prstGeom prst="line">
              <a:avLst/>
            </a:prstGeom>
            <a:ln w="9360">
              <a:solidFill>
                <a:srgbClr val="3a9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8280" y="3161880"/>
            <a:ext cx="8305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14CE-E7F4-47F3-A694-505B16380781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9fbe"/>
              </a:gs>
              <a:gs pos="100000">
                <a:srgbClr val="0051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49280" y="1792440"/>
            <a:ext cx="8244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3960" y="6540480"/>
            <a:ext cx="8668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1376280" y="6540480"/>
            <a:ext cx="70056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FC4-1489-4B1B-AD6D-F8FB700ECC8F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d0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6480" y="0"/>
            <a:ext cx="9163080" cy="6858000"/>
          </a:xfrm>
          <a:custGeom>
            <a:avLst/>
            <a:gdLst/>
            <a:ahLst/>
            <a:rect l="l" t="t" r="r" b="b"/>
            <a:pathLst>
              <a:path w="5772" h="4320">
                <a:moveTo>
                  <a:pt x="0" y="0"/>
                </a:moveTo>
                <a:lnTo>
                  <a:pt x="5772" y="0"/>
                </a:lnTo>
                <a:lnTo>
                  <a:pt x="5772" y="4320"/>
                </a:lnTo>
                <a:lnTo>
                  <a:pt x="4761" y="4318"/>
                </a:lnTo>
                <a:lnTo>
                  <a:pt x="5552" y="594"/>
                </a:lnTo>
                <a:lnTo>
                  <a:pt x="4395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720" y="3158640"/>
            <a:ext cx="83059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0"/>
          </p:nvPr>
        </p:nvSpPr>
        <p:spPr>
          <a:xfrm>
            <a:off x="426960" y="6533640"/>
            <a:ext cx="289584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1"/>
          </p:nvPr>
        </p:nvSpPr>
        <p:spPr>
          <a:xfrm>
            <a:off x="8534160" y="6533640"/>
            <a:ext cx="34596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F22-2614-4754-AEEC-7EE06AC87B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12"/>
          </p:nvPr>
        </p:nvSpPr>
        <p:spPr>
          <a:xfrm>
            <a:off x="448920" y="5785920"/>
            <a:ext cx="7110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 Conditions – Growth Rat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0323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172"/>
              </a:solidFill>
              <a:latin typeface="Arial"/>
            </a:endParaRPr>
          </a:p>
          <a:p>
            <a:pPr marL="187200" indent="-187200">
              <a:lnSpc>
                <a:spcPts val="1500"/>
              </a:lnSpc>
              <a:spcAft>
                <a:spcPts val="9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172"/>
                </a:solidFill>
                <a:latin typeface="Arial"/>
              </a:rPr>
              <a:t>Station Retail </a:t>
            </a:r>
            <a:r>
              <a:rPr b="0" i="1" lang="en-US" sz="1400" spc="-1" strike="noStrike">
                <a:solidFill>
                  <a:srgbClr val="005172"/>
                </a:solidFill>
                <a:latin typeface="Arial"/>
              </a:rPr>
              <a:t>(LFL Sales – Only Full Year Trading Brands/Units)</a:t>
            </a:r>
            <a:r>
              <a:rPr b="0" lang="en-US" sz="1400" spc="-1" strike="noStrike">
                <a:solidFill>
                  <a:srgbClr val="005172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2 10/11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5.34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3 10/11                   +5.02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marL="1872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marL="187200" indent="-187200">
              <a:lnSpc>
                <a:spcPts val="1500"/>
              </a:lnSpc>
              <a:spcAft>
                <a:spcPts val="9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172"/>
                </a:solidFill>
                <a:latin typeface="Arial"/>
              </a:rPr>
              <a:t>Station Retail </a:t>
            </a:r>
            <a:r>
              <a:rPr b="0" i="1" lang="en-US" sz="1400" spc="-1" strike="noStrike">
                <a:solidFill>
                  <a:srgbClr val="005172"/>
                </a:solidFill>
                <a:latin typeface="Arial"/>
              </a:rPr>
              <a:t>(Total – All In Inc Investments)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2 10/11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12.70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3 10/11                   +8.11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marL="187200" indent="-187200">
              <a:lnSpc>
                <a:spcPts val="1500"/>
              </a:lnSpc>
              <a:spcAft>
                <a:spcPts val="9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172"/>
                </a:solidFill>
                <a:latin typeface="Arial"/>
              </a:rPr>
              <a:t>British Retail Consortium</a:t>
            </a:r>
            <a:r>
              <a:rPr b="0" i="1" lang="en-US" sz="1400" spc="-1" strike="noStrike">
                <a:solidFill>
                  <a:srgbClr val="005172"/>
                </a:solidFill>
                <a:latin typeface="Arial"/>
              </a:rPr>
              <a:t> (LFL Sales including new developments)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1 10/11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1.96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2 10/11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0.66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Quarter 3 10/11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+0.40%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00"/>
              </a:lnSpc>
              <a:spcAft>
                <a:spcPts val="9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ember 10/11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0.3%</a:t>
            </a: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marL="187200" indent="0">
              <a:lnSpc>
                <a:spcPts val="15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  <a:p>
            <a:pPr marL="187200" indent="0">
              <a:lnSpc>
                <a:spcPts val="1698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5172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0360" y="1916280"/>
          <a:ext cx="51480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16280"/>
                    <a:ext cx="51480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twork Ra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540-D6CD-4C8D-9BA8-50D6002899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55:16Z</dcterms:created>
  <dc:creator>aledger1</dc:creator>
  <dc:description/>
  <dc:language>en-US</dc:language>
  <cp:lastModifiedBy>aking37</cp:lastModifiedBy>
  <dcterms:modified xsi:type="dcterms:W3CDTF">2011-03-08T10:14:52Z</dcterms:modified>
  <cp:revision>4</cp:revision>
  <dc:subject/>
  <dc:title>Market Conditions – Growth Rates</dc:title>
</cp:coreProperties>
</file>