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D6F-AD5F-43D4-82C8-7DBCFCDF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0F4-39B6-4CE2-BDB2-F9F78EB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F8-6333-443B-B5F8-72427BAC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451-D29D-4BED-8958-BDED30BC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0F6-9F4E-493D-AF2F-56B1014C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FBDF-6875-4D55-98B3-8642C143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03FE-5B0A-4B38-9A0C-AA60D4F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5C09-8828-46E7-8DC2-F43D26E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8F2E-C6F5-491C-9E35-70B2CC61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0706-7D7D-4EE3-88FA-5919EE16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9A5-BE43-474A-9F39-71215D8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42B-ABDA-42F4-A804-8C520DE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A85-A270-4D75-B6A5-BB3EE9E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CF2F-8A29-426E-B8B2-9CED420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514F-D9AB-40A0-891B-3764DDE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FCA3-288C-4948-862C-3A06F496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0399-5F43-43F7-B349-C333BEC8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0CE1-9DB3-405F-BFC1-E93F6621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5AD8-6ABB-4F18-B711-220A08E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377F-A20E-446C-8266-B31A1F1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48FA-7902-4E7B-AD0F-CE7F91C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F7A8-7649-406E-89FC-EA8CA007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3ED-19FB-4AAB-8049-3F28DA7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5E57-A360-4EE0-982C-9303009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8BA2-1CD5-4BDC-9D80-E619DC0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FAF0-B0F5-41C7-A77F-15908E56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A32B-FF79-4904-B8ED-4BB9E6D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038B-62C0-4B7A-8B7F-DF37B12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97FC-BB63-4738-89EE-B2F5EA6B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3CAA-6DE6-4B7D-94A2-0CF24EE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7CD4F-1DF3-4130-BE5F-7335BE07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8F3D7-6F77-44F1-9508-5CFFF12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CDF24-48D6-48AC-B3D7-FC6EAC0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9E0-6902-406B-BBD1-73D58348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644ED-D847-4624-AE77-228E30DD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FDD2A-2DEF-4B1F-AA2D-1907571F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01622-BE1D-4502-9925-4C9559F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00A6E-00E8-4D96-9096-B7A91A3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81C35-406B-48E8-AD98-43E759F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B1BA5-A0AA-49A5-8184-D86C2C9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F940B-C5F1-43B2-9B34-828077A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72C56-401E-4D8A-9644-1DDF39F4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69D19-C550-4588-A57B-CD37C87B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525-54A5-443E-87C9-BC17AEB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B07-24C2-4DDB-A521-C4FB1A7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0D1-3144-437E-B2A5-E4CB195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FBF-C7C8-4292-AAA1-72BDD9F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7EB-B3D9-4BB6-B8EF-45457FC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7ADD-94EE-44C7-9A8F-3E0030165803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7920" y="463680"/>
            <a:ext cx="8880480" cy="9223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80" y="463320"/>
            <a:ext cx="8881920" cy="18730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-6480" y="463320"/>
            <a:ext cx="8894880" cy="287316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476280"/>
            <a:ext cx="8880480" cy="39463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9360" y="469440"/>
            <a:ext cx="8878680" cy="51181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8920" y="482760"/>
            <a:ext cx="877104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779480" y="463680"/>
            <a:ext cx="7108920" cy="64036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43160" y="487440"/>
            <a:ext cx="572292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249800" y="463320"/>
            <a:ext cx="4638600" cy="63910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226120" y="463680"/>
            <a:ext cx="3662280" cy="638640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075360" y="463680"/>
            <a:ext cx="281304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50080" y="463680"/>
            <a:ext cx="2038320" cy="638784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3161880"/>
            <a:ext cx="8305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4DC2-DF1E-44E1-A8BA-5FAD506FED4C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49280" y="1792440"/>
            <a:ext cx="8244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3960" y="6540480"/>
            <a:ext cx="8668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1376280" y="6540480"/>
            <a:ext cx="70056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E23E-D1CA-45FE-A038-EB62B1A69FC6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480" y="0"/>
            <a:ext cx="9163080" cy="6858000"/>
          </a:xfrm>
          <a:custGeom>
            <a:avLst/>
            <a:gdLst/>
            <a:ahLst/>
            <a:rect l="l" t="t" r="r" b="b"/>
            <a:pathLst>
              <a:path w="5772" h="4320">
                <a:moveTo>
                  <a:pt x="0" y="0"/>
                </a:moveTo>
                <a:lnTo>
                  <a:pt x="5772" y="0"/>
                </a:lnTo>
                <a:lnTo>
                  <a:pt x="5772" y="4320"/>
                </a:lnTo>
                <a:lnTo>
                  <a:pt x="4761" y="4318"/>
                </a:lnTo>
                <a:lnTo>
                  <a:pt x="5552" y="594"/>
                </a:lnTo>
                <a:lnTo>
                  <a:pt x="4395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b6c2"/>
              </a:gs>
            </a:gsLst>
            <a:lin ang="8100000"/>
          </a:gradFill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9720" y="3158640"/>
            <a:ext cx="83059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0"/>
          </p:nvPr>
        </p:nvSpPr>
        <p:spPr>
          <a:xfrm>
            <a:off x="426960" y="6533640"/>
            <a:ext cx="289584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1"/>
          </p:nvPr>
        </p:nvSpPr>
        <p:spPr>
          <a:xfrm>
            <a:off x="8534160" y="6533640"/>
            <a:ext cx="34596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4B4-1AA9-48C5-9E1A-C93557D8D54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2"/>
          </p:nvPr>
        </p:nvSpPr>
        <p:spPr>
          <a:xfrm>
            <a:off x="448920" y="5785920"/>
            <a:ext cx="7110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Stalybridge – existing layou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277956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4365720"/>
            <a:ext cx="302436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2494080"/>
            <a:ext cx="1871640" cy="287280"/>
          </a:xfrm>
          <a:prstGeom prst="rect">
            <a:avLst/>
          </a:prstGeom>
          <a:solidFill>
            <a:srgbClr val="0051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350028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414972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522936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5734080"/>
            <a:ext cx="47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653000"/>
            <a:ext cx="158436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4797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4149720"/>
            <a:ext cx="7192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3500280"/>
            <a:ext cx="792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916280"/>
            <a:ext cx="72072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1916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349360"/>
            <a:ext cx="79056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1080" y="2349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516720" y="3500280"/>
            <a:ext cx="71928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48000" y="3500280"/>
            <a:ext cx="863640" cy="223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68000" y="5229360"/>
            <a:ext cx="28764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71640" y="4797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68360" y="3500280"/>
            <a:ext cx="43200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4284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5800" y="378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6160" y="431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6520" y="278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108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360" y="4195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6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892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-360" y="17733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D54-7A77-4417-97F7-962A2DCFEB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7600" y="549360"/>
            <a:ext cx="8267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Stalybridge – new layout and re-numbered plat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277956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4365720"/>
            <a:ext cx="230508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2494080"/>
            <a:ext cx="1871640" cy="287280"/>
          </a:xfrm>
          <a:prstGeom prst="rect">
            <a:avLst/>
          </a:prstGeom>
          <a:solidFill>
            <a:srgbClr val="0051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50028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4149720"/>
            <a:ext cx="51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57340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4653000"/>
            <a:ext cx="122400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7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4581360"/>
            <a:ext cx="1224000" cy="11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1916280"/>
            <a:ext cx="2890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16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349360"/>
            <a:ext cx="5032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1080" y="2349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588000" y="4149720"/>
            <a:ext cx="136872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86920" y="4149720"/>
            <a:ext cx="3603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339640" y="414936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284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5800" y="378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6160" y="431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6520" y="278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0108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4920" y="465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6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7892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17733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7973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4941720"/>
            <a:ext cx="20178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149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660720" y="4149720"/>
            <a:ext cx="86364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61080" y="3500280"/>
            <a:ext cx="432000" cy="6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263700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458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8000" y="4149360"/>
            <a:ext cx="43164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637000"/>
            <a:ext cx="36036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86920" y="3500280"/>
            <a:ext cx="360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692000" y="4149360"/>
            <a:ext cx="21564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66920" y="400356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414828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066920" y="350028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335772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10920" y="299736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99736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40000" y="558972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0360" y="573408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56000" y="4148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400536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969840" y="220500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220500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39640" y="1989000"/>
            <a:ext cx="28728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2781360"/>
            <a:ext cx="122400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2520" y="2300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95200" y="51577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13-D7C4-407A-AD8F-8569650218D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555480"/>
            <a:ext cx="82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New layout showing lifts linking existing sub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77164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4357800"/>
            <a:ext cx="230508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486160"/>
            <a:ext cx="187164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49236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4141800"/>
            <a:ext cx="51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572616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645080"/>
            <a:ext cx="122400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47894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4573440"/>
            <a:ext cx="122400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1908000"/>
            <a:ext cx="289080" cy="7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1908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2341440"/>
            <a:ext cx="5032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1080" y="23414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588000" y="4141800"/>
            <a:ext cx="1368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186920" y="414180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2339640" y="41414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3240" y="27018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47894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4933800"/>
            <a:ext cx="2017800" cy="503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41418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660720" y="4141800"/>
            <a:ext cx="863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661080" y="3492360"/>
            <a:ext cx="43200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26290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45734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41418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68000" y="414144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3280" y="2629080"/>
            <a:ext cx="36036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186920" y="3492360"/>
            <a:ext cx="360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692000" y="414144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39640" y="198108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558880"/>
            <a:ext cx="217800" cy="2303640"/>
          </a:xfrm>
          <a:prstGeom prst="rect">
            <a:avLst/>
          </a:prstGeom>
          <a:solidFill>
            <a:srgbClr val="156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4646520"/>
            <a:ext cx="14436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08720" y="2558880"/>
            <a:ext cx="287280" cy="216000"/>
          </a:xfrm>
          <a:prstGeom prst="rect">
            <a:avLst/>
          </a:prstGeom>
          <a:solidFill>
            <a:srgbClr val="156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2558880"/>
            <a:ext cx="14436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11640" y="306216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622520"/>
            <a:ext cx="2887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5440" y="15508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7734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508360" y="457488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143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0360" y="155736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ft insid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on to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227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4520" y="48690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ub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6011640" y="472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867-E832-4F05-BCBC-1F41E0E2A1A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4:15:49Z</dcterms:created>
  <dc:creator>jkelly</dc:creator>
  <dc:description/>
  <dc:language>en-US</dc:language>
  <cp:lastModifiedBy>klumley</cp:lastModifiedBy>
  <dcterms:modified xsi:type="dcterms:W3CDTF">2012-04-10T09:05:06Z</dcterms:modified>
  <cp:revision>9</cp:revision>
  <dc:subject/>
  <dc:title>Slide 1</dc:title>
</cp:coreProperties>
</file>