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66C-880E-42B9-B719-86DA5B8A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809-B9CF-480C-9A76-D3864CB0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2A2-25F7-42E0-8706-A9B397C0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676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38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492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676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38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CDC-0D73-4630-92CA-678B0C99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8C0E-DEB6-432C-A0A2-4839A312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7BEF-2BF6-4A57-80C4-863F2EF0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2F56-133F-4F2C-88A5-5074890B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CCCE-57AC-4824-A4C1-97856D9D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41F0-427A-4F3A-A362-141B8F31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17600" y="601560"/>
            <a:ext cx="82677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FC04-1F99-426F-978D-F8260FE2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47D7-6A64-49FB-B85E-8578F752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4CB-4DDC-445D-B33D-67DBEE62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C490-58C2-4157-996B-3E5CBB66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1DCD-483E-46F5-95BD-AC2C1923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6A85-CB90-4C78-BD43-7DE0523C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CF5E-F3A3-4060-8674-47A161EB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676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38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492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676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38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B7C3-38A6-46D7-B773-A47DD37A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6D522-5A1E-4887-9873-DE785655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4D3AE-1215-4694-AD2D-AE5C7F02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4A7F3-1E4F-4CDF-A92B-CA256738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E2C28-4ED6-4013-B119-BA73C89A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CF3F8-076C-4DD6-988D-B2696D66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683-D55F-4141-9104-63771451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17600" y="601560"/>
            <a:ext cx="82677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C60CF-11AB-464B-96F9-DAFCB075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88B4D-C8FF-4019-827E-27F09B0E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86C1-BDE8-4DFC-B027-1903808B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498B2-2104-49D2-B467-B53BFD05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BB554-D96C-4993-BA4C-0E9833A5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DAFF3-0498-4DF7-9346-38D52FAF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676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38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492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676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38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2FBAE-0CAE-4598-9508-64FD7A87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97C3B9-E610-458B-BFA7-48DFD548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CCE776-33DB-40DE-83FB-9A4F29FC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618F7-8B7C-494A-B383-CFA7162E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4FC-A681-4749-9DD4-4DB819B5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772BDF-A582-4CDC-8191-3820D687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7FC68-BBB5-4ACC-8B2B-E7DCA07F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17600" y="601560"/>
            <a:ext cx="82677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F8CEBA-8B6E-45C5-87F2-8C53D908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112C7F-1CF2-4C07-88DE-633BA1CC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83E692-F419-49B3-A43B-3F9333EA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B8B23B-DC7B-4EF1-9ADE-072F45D2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5C54C-547E-41F8-8124-259E57B7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6FE26C-5E38-46DE-869C-0BBEBCBC2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676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3880" y="178092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492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676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3880" y="4127760"/>
            <a:ext cx="265428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B870E8-1C30-4E18-951E-D1C73610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6E5-DA50-4036-81A3-EBA9C088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7600" y="601560"/>
            <a:ext cx="826776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CFB-3AFC-4204-9073-14C16EEE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E22D-2A4C-4627-AA31-A8E31C67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412776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F98-9610-452D-B107-6FBAC08E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492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1780920"/>
            <a:ext cx="4023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9280" y="4127760"/>
            <a:ext cx="8244000" cy="21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299"/>
              </a:lnSpc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B0E-42D6-4660-8CF7-A14A6FD0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6480" y="457200"/>
            <a:ext cx="8923320" cy="944640"/>
          </a:xfrm>
          <a:custGeom>
            <a:avLst/>
            <a:gdLst/>
            <a:ahLst/>
            <a:rect l="l" t="t" r="r" b="b"/>
            <a:pathLst>
              <a:path w="5621" h="595">
                <a:moveTo>
                  <a:pt x="0" y="0"/>
                </a:moveTo>
                <a:lnTo>
                  <a:pt x="5621" y="0"/>
                </a:lnTo>
                <a:lnTo>
                  <a:pt x="5488" y="589"/>
                </a:lnTo>
                <a:lnTo>
                  <a:pt x="0" y="595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912080" y="307800"/>
            <a:ext cx="1047600" cy="42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49280" y="1780920"/>
            <a:ext cx="824400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7200" indent="-187200">
              <a:lnSpc>
                <a:spcPts val="2299"/>
              </a:lnSpc>
              <a:spcAft>
                <a:spcPts val="2001"/>
              </a:spcAft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  <a:p>
            <a:pPr lvl="1" marL="569880" indent="-191880">
              <a:lnSpc>
                <a:spcPts val="2299"/>
              </a:lnSpc>
              <a:spcAft>
                <a:spcPts val="2001"/>
              </a:spcAft>
              <a:buClr>
                <a:srgbClr val="0051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  <a:p>
            <a:pPr lvl="2" marL="952560" indent="-192240">
              <a:lnSpc>
                <a:spcPts val="2299"/>
              </a:lnSpc>
              <a:spcAft>
                <a:spcPts val="2001"/>
              </a:spcAft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  <a:p>
            <a:pPr lvl="3" marL="1335240" indent="-192240">
              <a:lnSpc>
                <a:spcPts val="2299"/>
              </a:lnSpc>
              <a:spcAft>
                <a:spcPts val="2001"/>
              </a:spcAft>
              <a:buClr>
                <a:srgbClr val="0051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  <a:p>
            <a:pPr lvl="4" marL="1717560" indent="-191880">
              <a:lnSpc>
                <a:spcPts val="2299"/>
              </a:lnSpc>
              <a:spcAft>
                <a:spcPts val="2001"/>
              </a:spcAft>
              <a:buClr>
                <a:srgbClr val="0051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  <a:p>
            <a:pPr lvl="5" marL="1717560" indent="-191880">
              <a:lnSpc>
                <a:spcPts val="2299"/>
              </a:lnSpc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  <a:p>
            <a:pPr lvl="6" marL="1717560" indent="-191880">
              <a:lnSpc>
                <a:spcPts val="2299"/>
              </a:lnSpc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172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3600" y="6540480"/>
            <a:ext cx="8571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172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1375920" y="6540480"/>
            <a:ext cx="700740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172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589600" y="6540480"/>
            <a:ext cx="44604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D603-92F6-4BCF-8EA4-25513214F529}" type="slidenum">
              <a:rPr b="0" lang="en-US" sz="800" spc="-1" strike="noStrike">
                <a:solidFill>
                  <a:srgbClr val="005172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5172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7920" y="463680"/>
            <a:ext cx="8880480" cy="92232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480" y="463320"/>
            <a:ext cx="8881920" cy="187308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-6480" y="463320"/>
            <a:ext cx="8894880" cy="287316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0" y="476280"/>
            <a:ext cx="8880480" cy="394632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-9360" y="469440"/>
            <a:ext cx="8878680" cy="511812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88920" y="482760"/>
            <a:ext cx="8771040" cy="637992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779480" y="463680"/>
            <a:ext cx="7108920" cy="640368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143160" y="487440"/>
            <a:ext cx="5722920" cy="637992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249800" y="463320"/>
            <a:ext cx="4638600" cy="639108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226120" y="463680"/>
            <a:ext cx="3662280" cy="638640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075360" y="463680"/>
            <a:ext cx="2813040" cy="637992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850080" y="463680"/>
            <a:ext cx="2038320" cy="6387840"/>
          </a:xfrm>
          <a:prstGeom prst="line">
            <a:avLst/>
          </a:prstGeom>
          <a:ln w="9360">
            <a:solidFill>
              <a:srgbClr val="3a9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923160" y="173160"/>
            <a:ext cx="2060640" cy="825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8280" y="3161880"/>
            <a:ext cx="830592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7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800" spc="-1" strike="noStrike">
                <a:solidFill>
                  <a:srgbClr val="005172"/>
                </a:solidFill>
                <a:latin typeface="Arial"/>
              </a:rPr>
              <a:t>Click to edit the title text format</a:t>
            </a:r>
            <a:endParaRPr b="0" i="1" lang="en-US" sz="78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3600" y="6540480"/>
            <a:ext cx="85716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1375920" y="6540480"/>
            <a:ext cx="700740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8589600" y="6540480"/>
            <a:ext cx="44604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A7C8-4808-4C02-8FDA-1C15B59DDA0A}" type="slidenum">
              <a:rPr b="0" lang="en-US" sz="800" spc="-1" strike="noStrike">
                <a:solidFill>
                  <a:srgbClr val="005172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6480" y="457200"/>
            <a:ext cx="8923320" cy="944640"/>
          </a:xfrm>
          <a:custGeom>
            <a:avLst/>
            <a:gdLst/>
            <a:ahLst/>
            <a:rect l="l" t="t" r="r" b="b"/>
            <a:pathLst>
              <a:path w="5621" h="595">
                <a:moveTo>
                  <a:pt x="0" y="0"/>
                </a:moveTo>
                <a:lnTo>
                  <a:pt x="5621" y="0"/>
                </a:lnTo>
                <a:lnTo>
                  <a:pt x="5488" y="589"/>
                </a:lnTo>
                <a:lnTo>
                  <a:pt x="0" y="595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912080" y="307800"/>
            <a:ext cx="1047600" cy="4208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49280" y="1792440"/>
            <a:ext cx="8244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7200" indent="-187200">
              <a:lnSpc>
                <a:spcPts val="1599"/>
              </a:lnSpc>
              <a:spcAft>
                <a:spcPts val="1400"/>
              </a:spcAft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  <a:p>
            <a:pPr lvl="1" marL="569880" indent="-191880">
              <a:lnSpc>
                <a:spcPts val="1599"/>
              </a:lnSpc>
              <a:spcAft>
                <a:spcPts val="1400"/>
              </a:spcAft>
              <a:buClr>
                <a:srgbClr val="0051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  <a:p>
            <a:pPr lvl="2" marL="952560" indent="-192240">
              <a:lnSpc>
                <a:spcPts val="1599"/>
              </a:lnSpc>
              <a:spcAft>
                <a:spcPts val="1400"/>
              </a:spcAft>
              <a:buClr>
                <a:srgbClr val="0051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  <a:p>
            <a:pPr lvl="3" marL="1335240" indent="-192240">
              <a:lnSpc>
                <a:spcPts val="1599"/>
              </a:lnSpc>
              <a:spcAft>
                <a:spcPts val="1400"/>
              </a:spcAft>
              <a:buClr>
                <a:srgbClr val="0051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  <a:p>
            <a:pPr lvl="4" marL="1717560" indent="-191880">
              <a:lnSpc>
                <a:spcPts val="1599"/>
              </a:lnSpc>
              <a:spcAft>
                <a:spcPts val="1400"/>
              </a:spcAft>
              <a:buClr>
                <a:srgbClr val="0051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  <a:p>
            <a:pPr lvl="5" marL="1717560" indent="-191880">
              <a:lnSpc>
                <a:spcPts val="1599"/>
              </a:lnSpc>
              <a:spcAft>
                <a:spcPts val="14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  <a:p>
            <a:pPr lvl="6" marL="1717560" indent="-191880">
              <a:lnSpc>
                <a:spcPts val="1599"/>
              </a:lnSpc>
              <a:spcAft>
                <a:spcPts val="14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5172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3960" y="6540480"/>
            <a:ext cx="86688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172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1376280" y="6540480"/>
            <a:ext cx="700560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172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589600" y="6540480"/>
            <a:ext cx="44604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51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B20A-B592-4780-9F66-0D8EEAC79B57}" type="slidenum">
              <a:rPr b="0" lang="en-US" sz="800" spc="-1" strike="noStrike">
                <a:solidFill>
                  <a:srgbClr val="005172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5172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6480" y="0"/>
            <a:ext cx="9163080" cy="6858000"/>
          </a:xfrm>
          <a:custGeom>
            <a:avLst/>
            <a:gdLst/>
            <a:ahLst/>
            <a:rect l="l" t="t" r="r" b="b"/>
            <a:pathLst>
              <a:path w="5772" h="4320">
                <a:moveTo>
                  <a:pt x="0" y="0"/>
                </a:moveTo>
                <a:lnTo>
                  <a:pt x="5772" y="0"/>
                </a:lnTo>
                <a:lnTo>
                  <a:pt x="5772" y="4320"/>
                </a:lnTo>
                <a:lnTo>
                  <a:pt x="4761" y="4318"/>
                </a:lnTo>
                <a:lnTo>
                  <a:pt x="5552" y="594"/>
                </a:lnTo>
                <a:lnTo>
                  <a:pt x="4395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0b6c2"/>
              </a:gs>
            </a:gsLst>
            <a:lin ang="8100000"/>
          </a:gradFill>
          <a:ln w="9360">
            <a:solidFill>
              <a:srgbClr val="0051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9720" y="3158640"/>
            <a:ext cx="830592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7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800" spc="-1" strike="noStrike">
                <a:solidFill>
                  <a:srgbClr val="005172"/>
                </a:solidFill>
                <a:latin typeface="Arial"/>
              </a:rPr>
              <a:t>Click to edit the title text format</a:t>
            </a:r>
            <a:endParaRPr b="0" i="1" lang="en-US" sz="78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ftr" idx="10"/>
          </p:nvPr>
        </p:nvSpPr>
        <p:spPr>
          <a:xfrm>
            <a:off x="426960" y="6533640"/>
            <a:ext cx="2895840" cy="1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11"/>
          </p:nvPr>
        </p:nvSpPr>
        <p:spPr>
          <a:xfrm>
            <a:off x="8534160" y="6533640"/>
            <a:ext cx="345960" cy="1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DE05-E4F5-4C99-AB04-9626CE2E3E9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12"/>
          </p:nvPr>
        </p:nvSpPr>
        <p:spPr>
          <a:xfrm>
            <a:off x="448920" y="5785920"/>
            <a:ext cx="71103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923160" y="173160"/>
            <a:ext cx="2060640" cy="82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7600" y="601560"/>
            <a:ext cx="826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5172"/>
                </a:solidFill>
                <a:latin typeface="Arial"/>
              </a:rPr>
              <a:t>Stalybridge – existing layout</a:t>
            </a:r>
            <a:endParaRPr b="0" i="1" lang="en-US" sz="3600" spc="-1" strike="noStrike">
              <a:solidFill>
                <a:srgbClr val="00517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2000" y="2779560"/>
            <a:ext cx="3097440" cy="5050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4365720"/>
            <a:ext cx="3024360" cy="2872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56000" y="2494080"/>
            <a:ext cx="1871640" cy="287280"/>
          </a:xfrm>
          <a:prstGeom prst="rect">
            <a:avLst/>
          </a:prstGeom>
          <a:solidFill>
            <a:srgbClr val="0051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3500280"/>
            <a:ext cx="806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4149720"/>
            <a:ext cx="79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5229360"/>
            <a:ext cx="40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95640" y="5734080"/>
            <a:ext cx="47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4653000"/>
            <a:ext cx="1584360" cy="2872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479736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76360" y="4149720"/>
            <a:ext cx="71928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92360" y="3500280"/>
            <a:ext cx="79200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1916280"/>
            <a:ext cx="720720" cy="158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8000" y="191628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349360"/>
            <a:ext cx="790560" cy="18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1080" y="2349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516720" y="3500280"/>
            <a:ext cx="71928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948000" y="3500280"/>
            <a:ext cx="863640" cy="223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268000" y="5229360"/>
            <a:ext cx="28764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71640" y="479736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268360" y="3500280"/>
            <a:ext cx="43200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42840" y="2997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form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5800" y="3789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form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6160" y="43164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form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66520" y="27813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01080" y="3213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360" y="4195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i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36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V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7892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-360" y="17733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3996-C079-4EE0-B693-EE40397EDAA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te 16.06.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7600" y="549360"/>
            <a:ext cx="8267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5172"/>
                </a:solidFill>
                <a:latin typeface="Arial"/>
              </a:rPr>
              <a:t>Stalybridge – new layout and re-numbered plat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2779560"/>
            <a:ext cx="3097440" cy="5050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51280" y="4365720"/>
            <a:ext cx="2305080" cy="2872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2494080"/>
            <a:ext cx="1871640" cy="287280"/>
          </a:xfrm>
          <a:prstGeom prst="rect">
            <a:avLst/>
          </a:prstGeom>
          <a:solidFill>
            <a:srgbClr val="0051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3500280"/>
            <a:ext cx="806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47640" y="4149720"/>
            <a:ext cx="511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3640" y="573408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32360" y="4653000"/>
            <a:ext cx="1224000" cy="2872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479736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79640" y="4581360"/>
            <a:ext cx="1224000" cy="11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6920" y="1916280"/>
            <a:ext cx="28908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191628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2349360"/>
            <a:ext cx="503280" cy="115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1080" y="2349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588000" y="4149720"/>
            <a:ext cx="1368720" cy="158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186920" y="4149720"/>
            <a:ext cx="36036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339640" y="4149360"/>
            <a:ext cx="64764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42840" y="2997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form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45800" y="3789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form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6160" y="43164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form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166520" y="27813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101080" y="3213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34920" y="4653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i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60" y="1413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V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7892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-360" y="17733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479736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64000" y="4941720"/>
            <a:ext cx="201780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56720" y="41497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6660720" y="4149720"/>
            <a:ext cx="86364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661080" y="3500280"/>
            <a:ext cx="432000" cy="649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2637000"/>
            <a:ext cx="352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00000" y="4581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9280" y="4149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468000" y="4149360"/>
            <a:ext cx="43164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3280" y="2637000"/>
            <a:ext cx="360360" cy="86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1186920" y="3500280"/>
            <a:ext cx="36036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1692000" y="4149360"/>
            <a:ext cx="21564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066920" y="4003560"/>
            <a:ext cx="14436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67280" y="4148280"/>
            <a:ext cx="14436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066920" y="350028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67280" y="335772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10920" y="2997360"/>
            <a:ext cx="14436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2997360"/>
            <a:ext cx="14436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140000" y="5589720"/>
            <a:ext cx="14436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40360" y="5734080"/>
            <a:ext cx="14436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56000" y="4148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56000" y="400536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969840" y="220500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220500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39640" y="1989000"/>
            <a:ext cx="28728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2781360"/>
            <a:ext cx="122400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2520" y="23004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form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95200" y="515772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form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D00-66A3-434C-A723-582513BA4CD2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te 16.06.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555480"/>
            <a:ext cx="826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5172"/>
                </a:solidFill>
                <a:latin typeface="Arial"/>
              </a:rPr>
              <a:t>New layout showing lifts linking existing subw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2771640"/>
            <a:ext cx="3097440" cy="5050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51280" y="4357800"/>
            <a:ext cx="2305080" cy="2872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486160"/>
            <a:ext cx="1871640" cy="2872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3492360"/>
            <a:ext cx="806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47640" y="4141800"/>
            <a:ext cx="511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03640" y="572616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32360" y="4645080"/>
            <a:ext cx="1224000" cy="2872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87640" y="478944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79640" y="4573440"/>
            <a:ext cx="1224000" cy="115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26920" y="1908000"/>
            <a:ext cx="289080" cy="7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8000" y="190800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2341440"/>
            <a:ext cx="503280" cy="115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1080" y="23414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588000" y="4141800"/>
            <a:ext cx="136872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186920" y="4141800"/>
            <a:ext cx="36036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2339640" y="4141440"/>
            <a:ext cx="64764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23240" y="27018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47894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64000" y="4933800"/>
            <a:ext cx="2017800" cy="503280"/>
          </a:xfrm>
          <a:prstGeom prst="rect">
            <a:avLst/>
          </a:prstGeom>
          <a:solidFill>
            <a:srgbClr val="70b6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56720" y="414180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660720" y="4141800"/>
            <a:ext cx="86364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661080" y="3492360"/>
            <a:ext cx="43200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26290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457344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9280" y="41418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468000" y="4141440"/>
            <a:ext cx="4316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03280" y="2629080"/>
            <a:ext cx="360360" cy="86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1186920" y="3492360"/>
            <a:ext cx="36036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1692000" y="4141440"/>
            <a:ext cx="2156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39640" y="198108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24360" y="2558880"/>
            <a:ext cx="217800" cy="2303640"/>
          </a:xfrm>
          <a:prstGeom prst="rect">
            <a:avLst/>
          </a:prstGeom>
          <a:solidFill>
            <a:srgbClr val="1561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40360" y="4646520"/>
            <a:ext cx="14436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508720" y="2558880"/>
            <a:ext cx="287280" cy="216000"/>
          </a:xfrm>
          <a:prstGeom prst="rect">
            <a:avLst/>
          </a:prstGeom>
          <a:solidFill>
            <a:srgbClr val="1561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2558880"/>
            <a:ext cx="14436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011640" y="3062160"/>
            <a:ext cx="10810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622520"/>
            <a:ext cx="28872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85440" y="155088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l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08720" y="27734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5508360" y="4574880"/>
            <a:ext cx="360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63840" y="143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80360" y="1557360"/>
            <a:ext cx="30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ft inside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on to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59280" y="227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734520" y="48690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sub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6011640" y="472392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103-5BAF-4E7F-8C3F-D1FEFE2DC5F5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ate 16.06.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4:15:49Z</dcterms:created>
  <dc:creator>jkelly</dc:creator>
  <dc:description/>
  <dc:language>en-US</dc:language>
  <cp:lastModifiedBy>klumley</cp:lastModifiedBy>
  <dcterms:modified xsi:type="dcterms:W3CDTF">2012-04-10T09:05:06Z</dcterms:modified>
  <cp:revision>9</cp:revision>
  <dc:subject/>
  <dc:title>Slide 1</dc:title>
</cp:coreProperties>
</file>