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6.png" ContentType="image/png"/>
  <Override PartName="/ppt/media/image9.jpeg" ContentType="image/jpeg"/>
  <Override PartName="/ppt/media/image37.png" ContentType="image/png"/>
  <Override PartName="/ppt/media/image34.jpeg" ContentType="image/jpeg"/>
  <Override PartName="/ppt/media/image31.jpeg" ContentType="image/jpeg"/>
  <Override PartName="/ppt/media/image49.png" ContentType="image/png"/>
  <Override PartName="/ppt/media/image12.png" ContentType="image/png"/>
  <Override PartName="/ppt/media/image32.jpeg" ContentType="image/jpeg"/>
  <Override PartName="/ppt/media/image59.png" ContentType="image/png"/>
  <Override PartName="/ppt/media/image22.png" ContentType="image/png"/>
  <Override PartName="/ppt/media/image24.png" ContentType="image/png"/>
  <Override PartName="/ppt/media/image17.png" ContentType="image/png"/>
  <Override PartName="/ppt/media/image82.png" ContentType="image/png"/>
  <Override PartName="/ppt/media/image33.jpeg" ContentType="image/jpeg"/>
  <Override PartName="/ppt/media/image27.png" ContentType="image/png"/>
  <Override PartName="/ppt/media/image30.wmf" ContentType="image/x-wmf"/>
  <Override PartName="/ppt/media/image73.png" ContentType="image/png"/>
  <Override PartName="/ppt/media/image29.png" ContentType="image/png"/>
  <Override PartName="/ppt/media/image21.jpeg" ContentType="image/jpeg"/>
  <Override PartName="/ppt/media/image65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18.png" ContentType="image/png"/>
  <Override PartName="/ppt/media/image62.png" ContentType="image/png"/>
  <Override PartName="/ppt/media/image63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16.jpeg" ContentType="image/jpeg"/>
  <Override PartName="/ppt/media/image72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.jpeg" ContentType="image/jpeg"/>
  <Override PartName="/ppt/media/image57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19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81.png" ContentType="image/png"/>
  <Override PartName="/ppt/media/image11.png" ContentType="image/png"/>
  <Override PartName="/ppt/media/image48.png" ContentType="image/png"/>
  <Override PartName="/ppt/media/image8.jpeg" ContentType="image/jpeg"/>
  <Override PartName="/ppt/media/image26.png" ContentType="image/png"/>
  <Override PartName="/ppt/media/image23.png" ContentType="image/png"/>
  <Override PartName="/ppt/media/image13.jpeg" ContentType="image/jpeg"/>
  <Override PartName="/ppt/media/image4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11523663" cy="6480175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3240" y="742680"/>
            <a:ext cx="6607080" cy="371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9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0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798F4E-16A2-4EF6-9830-3813FF99E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3600" y="743040"/>
            <a:ext cx="6607080" cy="37162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cremental cost of Manchester-Leeds is £5.5bn (£80m per route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3600" y="743040"/>
            <a:ext cx="6607080" cy="37162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weo options – sensible solution is a spur impact less on journey times to northern dest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3600" y="743040"/>
            <a:ext cx="6607080" cy="37162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nk of good connection between terminals at Euston 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3600" y="743040"/>
            <a:ext cx="6607080" cy="3716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ndon-Birmingham-Manchester 25% of English pop and 25% of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120-BEA0-4A25-B8D1-4CA26098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22A-79C0-4CEB-BF32-B0574EF8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6CD-1C80-4480-BA7B-21D081E0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8240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8844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36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8240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8844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0C8-76B3-480B-991D-D8E88E93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366A-6E42-4138-9651-DE36D41A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952F-870B-4666-93CE-C1342228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D25C-3AAC-409B-9087-166A15A5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1675-8CAE-44BD-8B3B-194F8CED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404E-DE0C-427C-B2F8-5086661E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6360" y="95040"/>
            <a:ext cx="1036944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9438-B017-4DF2-8E01-C04768AC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E246-F59C-4613-9DFB-6F9BD5A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C5D-B566-4619-9954-0C8D1AB4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B416-70FC-4676-98C5-91261DD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26E3-C05C-48A4-8837-9B234A25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0A49-4D59-4399-99C0-AB1C5C32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A8E1-33A7-4FF4-B448-5D0B87DE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8240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58844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636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8240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58844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FF3E-27DE-4FEA-A8D7-851E05F9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C32C-E4AD-43E4-8656-31D8BF0C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CFA7-E783-48ED-AEE2-C786519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A7F9-2463-400A-82C0-C3D1AB04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39F8-8580-4E58-976C-2C8D98B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BBB9-8C8A-47E5-AC6D-45E05F57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51B-AA99-4667-AC72-6EB5EDBF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76360" y="95040"/>
            <a:ext cx="1036944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A40A-C780-48C9-91CF-3F125925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296A-DEC9-4C00-A465-2E5052E5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BAB6-D061-405D-9198-8AFC5BE2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44CD-4FCB-4F3A-A934-BC40E26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1BFE-1B8E-4FC0-A8FA-408807D5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D8E0-6C41-42FB-9DEF-24401542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8240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58844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7636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08240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58844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7590-4EEA-4AC7-8739-164E19E6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FC71-FCD3-4301-A54A-926A9CB8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FAC1-C0C0-42B9-83C6-A283A959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514A-5172-4711-8EF7-3A5E5558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5F5-01E0-40A5-B972-F743F933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A4BD-49BB-4F6E-AEA6-D1221E92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23C9-78BF-47B9-B456-44BA7677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6360" y="95040"/>
            <a:ext cx="1036944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F304-9BE1-4BCE-94E3-919D635E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CA50-7099-4BB9-A56B-3B10D242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E93F-C823-45E1-A9AE-BA641C34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9A15-B420-4F47-A117-1D04C50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76B0-2550-49C1-B58D-A5062721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6FCF-6260-43D0-80E2-E10178B4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8240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8844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7636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08240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758844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C146-28E8-4E01-86F1-A69250E1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4A90-645B-4F88-9784-96BEF273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125-B2D2-45B4-AC65-CB43F68A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338E9-3A69-4E1C-9357-560C5E18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99ECC-CC33-44CB-A402-6094ACAD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F5A58-C2B6-48D0-B080-776569C8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396C-2801-456D-8AEA-7D3D6C9F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76360" y="95040"/>
            <a:ext cx="1036944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5C525-618B-4598-9B1C-505B318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25190-AE4D-43DD-8D61-5FB277F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A363-333A-430F-B0F7-E01F44BC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15EA-1EED-4EF9-AA74-F0C67E1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9574E-9D91-4551-953D-81329EBC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3EEE0-A900-488F-9FC6-D777E9FC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6360" y="95040"/>
            <a:ext cx="1036944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3BB-04AB-4B19-AAED-E224059E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8240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58844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7636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08240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58844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66AA6-AD84-4D98-B5CE-F60FCD1B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76360" y="95040"/>
            <a:ext cx="1036944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B1D-77EF-4F22-8BDB-931DA1BA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8240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588440" y="120312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7636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08240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588440" y="3432600"/>
            <a:ext cx="33386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89960" y="343260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E2F-A377-4495-BE77-4A580DB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89960" y="1203120"/>
            <a:ext cx="506016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360" y="3432600"/>
            <a:ext cx="10369440" cy="20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A96-F35A-499E-9552-05E851D5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D:\_Network Rail\PowerPoint\GFX\Artwork\Business Briefings Holding v02.jpg"/>
          <p:cNvPicPr/>
          <p:nvPr/>
        </p:nvPicPr>
        <p:blipFill>
          <a:blip r:embed="rId2"/>
          <a:stretch/>
        </p:blipFill>
        <p:spPr>
          <a:xfrm>
            <a:off x="0" y="0"/>
            <a:ext cx="115221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36960" y="6005160"/>
            <a:ext cx="36482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5804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6F54-0E2A-47B1-BB31-B9BB80B3C1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D:\_Network Rail\PowerPoint\GFX\Artwork\Business Briefings Holding v02.jpg"/>
          <p:cNvPicPr/>
          <p:nvPr/>
        </p:nvPicPr>
        <p:blipFill>
          <a:blip r:embed="rId2"/>
          <a:stretch/>
        </p:blipFill>
        <p:spPr>
          <a:xfrm>
            <a:off x="0" y="0"/>
            <a:ext cx="11522160" cy="648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:\_Network Rail\PowerPoint\GFX\Artwork\Business Briefings Holding v03 blank.jpg"/>
          <p:cNvPicPr/>
          <p:nvPr/>
        </p:nvPicPr>
        <p:blipFill>
          <a:blip r:embed="rId3"/>
          <a:stretch/>
        </p:blipFill>
        <p:spPr>
          <a:xfrm>
            <a:off x="0" y="0"/>
            <a:ext cx="115221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936960" y="6005160"/>
            <a:ext cx="36482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5804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53DA-85B6-4B5D-93DB-B7747516FA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D:\_Network Rail\PowerPoint\GFX\Artwork\Business Briefings Holding v02.jpg"/>
          <p:cNvPicPr/>
          <p:nvPr/>
        </p:nvPicPr>
        <p:blipFill>
          <a:blip r:embed="rId2"/>
          <a:stretch/>
        </p:blipFill>
        <p:spPr>
          <a:xfrm>
            <a:off x="0" y="0"/>
            <a:ext cx="11522160" cy="648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:\_Network Rail\PowerPoint\GFX\Artwork\Business Briefings Holding v03 blank.jpg"/>
          <p:cNvPicPr/>
          <p:nvPr/>
        </p:nvPicPr>
        <p:blipFill>
          <a:blip r:embed="rId3"/>
          <a:stretch/>
        </p:blipFill>
        <p:spPr>
          <a:xfrm>
            <a:off x="0" y="0"/>
            <a:ext cx="115221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1008000" y="1811160"/>
            <a:ext cx="528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GM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36960" y="6005160"/>
            <a:ext cx="36482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5804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50F0-0E4B-4E3E-A0BC-412BF8619A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D:\_Network Rail\PowerPoint\GFX\Artwork\Business Briefings Holding v02.jpg"/>
          <p:cNvPicPr/>
          <p:nvPr/>
        </p:nvPicPr>
        <p:blipFill>
          <a:blip r:embed="rId2"/>
          <a:stretch/>
        </p:blipFill>
        <p:spPr>
          <a:xfrm>
            <a:off x="0" y="0"/>
            <a:ext cx="11522160" cy="648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:\_Network Rail\PowerPoint\GFX\Artwork\Business Briefings Content v02 (White).jpg"/>
          <p:cNvPicPr/>
          <p:nvPr/>
        </p:nvPicPr>
        <p:blipFill>
          <a:blip r:embed="rId3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936960" y="6005160"/>
            <a:ext cx="36482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5804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FE11-2557-43F2-B59A-68961B1BE6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D:\_Network Rail\PowerPoint\GFX\Artwork\Business Briefings Holding v02.jpg"/>
          <p:cNvPicPr/>
          <p:nvPr/>
        </p:nvPicPr>
        <p:blipFill>
          <a:blip r:embed="rId2"/>
          <a:stretch/>
        </p:blipFill>
        <p:spPr>
          <a:xfrm>
            <a:off x="0" y="0"/>
            <a:ext cx="11522160" cy="64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D:\_Network Rail\PowerPoint\GFX\Artwork\Business Briefings Content v02 (White).jpg"/>
          <p:cNvPicPr/>
          <p:nvPr/>
        </p:nvPicPr>
        <p:blipFill>
          <a:blip r:embed="rId3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76000" y="6005160"/>
            <a:ext cx="2687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936960" y="6005160"/>
            <a:ext cx="36482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58040" y="6005160"/>
            <a:ext cx="26877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4CEE-8F8E-493F-A0B5-FBF89C4910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D:\_Network Rail\PowerPoint\GFX\Artwork\Business Briefings Holding v02.jpg"/>
          <p:cNvPicPr/>
          <p:nvPr/>
        </p:nvPicPr>
        <p:blipFill>
          <a:blip r:embed="rId2"/>
          <a:stretch/>
        </p:blipFill>
        <p:spPr>
          <a:xfrm>
            <a:off x="0" y="0"/>
            <a:ext cx="11522160" cy="6480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6000" y="5900760"/>
            <a:ext cx="2687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936960" y="5900760"/>
            <a:ext cx="3648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image" Target="../media/image53.png"/><Relationship Id="rId20" Type="http://schemas.openxmlformats.org/officeDocument/2006/relationships/image" Target="../media/image54.png"/><Relationship Id="rId21" Type="http://schemas.openxmlformats.org/officeDocument/2006/relationships/image" Target="../media/image55.png"/><Relationship Id="rId22" Type="http://schemas.openxmlformats.org/officeDocument/2006/relationships/image" Target="../media/image56.png"/><Relationship Id="rId23" Type="http://schemas.openxmlformats.org/officeDocument/2006/relationships/image" Target="../media/image57.png"/><Relationship Id="rId24" Type="http://schemas.openxmlformats.org/officeDocument/2006/relationships/image" Target="../media/image58.png"/><Relationship Id="rId25" Type="http://schemas.openxmlformats.org/officeDocument/2006/relationships/image" Target="../media/image59.png"/><Relationship Id="rId26" Type="http://schemas.openxmlformats.org/officeDocument/2006/relationships/image" Target="../media/image60.png"/><Relationship Id="rId27" Type="http://schemas.openxmlformats.org/officeDocument/2006/relationships/image" Target="../media/image61.png"/><Relationship Id="rId28" Type="http://schemas.openxmlformats.org/officeDocument/2006/relationships/image" Target="../media/image62.png"/><Relationship Id="rId29" Type="http://schemas.openxmlformats.org/officeDocument/2006/relationships/image" Target="../media/image63.png"/><Relationship Id="rId30" Type="http://schemas.openxmlformats.org/officeDocument/2006/relationships/image" Target="../media/image64.png"/><Relationship Id="rId31" Type="http://schemas.openxmlformats.org/officeDocument/2006/relationships/image" Target="../media/image65.png"/><Relationship Id="rId32" Type="http://schemas.openxmlformats.org/officeDocument/2006/relationships/image" Target="../media/image66.png"/><Relationship Id="rId33" Type="http://schemas.openxmlformats.org/officeDocument/2006/relationships/image" Target="../media/image67.png"/><Relationship Id="rId34" Type="http://schemas.openxmlformats.org/officeDocument/2006/relationships/image" Target="../media/image68.png"/><Relationship Id="rId35" Type="http://schemas.openxmlformats.org/officeDocument/2006/relationships/image" Target="../media/image69.png"/><Relationship Id="rId36" Type="http://schemas.openxmlformats.org/officeDocument/2006/relationships/image" Target="../media/image70.png"/><Relationship Id="rId37" Type="http://schemas.openxmlformats.org/officeDocument/2006/relationships/image" Target="../media/image71.png"/><Relationship Id="rId38" Type="http://schemas.openxmlformats.org/officeDocument/2006/relationships/image" Target="../media/image72.png"/><Relationship Id="rId39" Type="http://schemas.openxmlformats.org/officeDocument/2006/relationships/image" Target="../media/image73.png"/><Relationship Id="rId40" Type="http://schemas.openxmlformats.org/officeDocument/2006/relationships/image" Target="../media/image74.png"/><Relationship Id="rId41" Type="http://schemas.openxmlformats.org/officeDocument/2006/relationships/image" Target="../media/image75.png"/><Relationship Id="rId42" Type="http://schemas.openxmlformats.org/officeDocument/2006/relationships/image" Target="../media/image76.png"/><Relationship Id="rId43" Type="http://schemas.openxmlformats.org/officeDocument/2006/relationships/image" Target="../media/image77.png"/><Relationship Id="rId44" Type="http://schemas.openxmlformats.org/officeDocument/2006/relationships/image" Target="../media/image78.png"/><Relationship Id="rId45" Type="http://schemas.openxmlformats.org/officeDocument/2006/relationships/image" Target="../media/image79.png"/><Relationship Id="rId46" Type="http://schemas.openxmlformats.org/officeDocument/2006/relationships/image" Target="../media/image80.png"/><Relationship Id="rId47" Type="http://schemas.openxmlformats.org/officeDocument/2006/relationships/image" Target="../media/image81.png"/><Relationship Id="rId4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D:\Network Rail\GFX\Title Screen v01.jpg"/>
          <p:cNvPicPr/>
          <p:nvPr/>
        </p:nvPicPr>
        <p:blipFill>
          <a:blip r:embed="rId1"/>
          <a:srcRect l="9460" t="0" r="9460" b="0"/>
          <a:stretch/>
        </p:blipFill>
        <p:spPr>
          <a:xfrm>
            <a:off x="0" y="0"/>
            <a:ext cx="11522160" cy="6480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8000" y="1224000"/>
            <a:ext cx="8785440" cy="1309680"/>
          </a:xfrm>
          <a:prstGeom prst="rect">
            <a:avLst/>
          </a:prstGeom>
          <a:noFill/>
          <a:ln w="0">
            <a:noFill/>
          </a:ln>
        </p:spPr>
        <p:txBody>
          <a:bodyPr tIns="1440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eting the capacity challenge: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case for new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643720" y="3312720"/>
            <a:ext cx="5302080" cy="10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ain Cou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ief Executive, Network R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y 2030 peak hour demand into London Euston is 18,500 passengers an h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RushHourPA_468x297[1]"/>
          <p:cNvPicPr/>
          <p:nvPr/>
        </p:nvPicPr>
        <p:blipFill>
          <a:blip r:embed="rId1"/>
          <a:stretch/>
        </p:blipFill>
        <p:spPr>
          <a:xfrm>
            <a:off x="5905440" y="1311120"/>
            <a:ext cx="5040360" cy="31496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4" name="Picture 5" descr="contrails[1]"/>
          <p:cNvPicPr/>
          <p:nvPr/>
        </p:nvPicPr>
        <p:blipFill>
          <a:blip r:embed="rId2"/>
          <a:stretch/>
        </p:blipFill>
        <p:spPr>
          <a:xfrm>
            <a:off x="576360" y="1311120"/>
            <a:ext cx="5040360" cy="31496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15" name="Rectangle 15"/>
          <p:cNvGrpSpPr/>
          <p:nvPr/>
        </p:nvGrpSpPr>
        <p:grpSpPr>
          <a:xfrm>
            <a:off x="5864400" y="4511520"/>
            <a:ext cx="5175000" cy="974880"/>
            <a:chOff x="5864400" y="4511520"/>
            <a:chExt cx="5175000" cy="974880"/>
          </a:xfrm>
        </p:grpSpPr>
        <p:pic>
          <p:nvPicPr>
            <p:cNvPr id="316" name="Rectangle 15" descr=""/>
            <p:cNvPicPr/>
            <p:nvPr/>
          </p:nvPicPr>
          <p:blipFill>
            <a:blip r:embed="rId3"/>
            <a:stretch/>
          </p:blipFill>
          <p:spPr>
            <a:xfrm>
              <a:off x="5864400" y="4511520"/>
              <a:ext cx="517500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905440" y="4613400"/>
              <a:ext cx="50403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r an eight-lane motorway in </a:t>
              </a:r>
              <a:br>
                <a:rPr sz="2400"/>
              </a:b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both dir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16"/>
          <p:cNvGrpSpPr/>
          <p:nvPr/>
        </p:nvGrpSpPr>
        <p:grpSpPr>
          <a:xfrm>
            <a:off x="536400" y="4572000"/>
            <a:ext cx="5169240" cy="914400"/>
            <a:chOff x="536400" y="4572000"/>
            <a:chExt cx="5169240" cy="914400"/>
          </a:xfrm>
        </p:grpSpPr>
        <p:pic>
          <p:nvPicPr>
            <p:cNvPr id="319" name="Rectangle 16" descr=""/>
            <p:cNvPicPr/>
            <p:nvPr/>
          </p:nvPicPr>
          <p:blipFill>
            <a:blip r:embed="rId4"/>
            <a:stretch/>
          </p:blipFill>
          <p:spPr>
            <a:xfrm>
              <a:off x="536400" y="4572000"/>
              <a:ext cx="5169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76360" y="4613400"/>
              <a:ext cx="50403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113 domestic flights an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ute options for London to Midlands and the North W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rcRect l="0" t="0" r="79616" b="0"/>
          <a:stretch/>
        </p:blipFill>
        <p:spPr>
          <a:xfrm>
            <a:off x="1690560" y="1212840"/>
            <a:ext cx="1141560" cy="4259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23" name="Picture 5" descr=""/>
          <p:cNvPicPr/>
          <p:nvPr/>
        </p:nvPicPr>
        <p:blipFill>
          <a:blip r:embed="rId2"/>
          <a:srcRect l="19857" t="0" r="59653" b="0"/>
          <a:stretch/>
        </p:blipFill>
        <p:spPr>
          <a:xfrm>
            <a:off x="3443400" y="1212840"/>
            <a:ext cx="1146240" cy="4259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24" name="Picture 5" descr=""/>
          <p:cNvPicPr/>
          <p:nvPr/>
        </p:nvPicPr>
        <p:blipFill>
          <a:blip r:embed="rId3"/>
          <a:srcRect l="40077" t="0" r="39787" b="0"/>
          <a:stretch/>
        </p:blipFill>
        <p:spPr>
          <a:xfrm>
            <a:off x="5200560" y="1212840"/>
            <a:ext cx="1127160" cy="4259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25" name="Picture 5" descr=""/>
          <p:cNvPicPr/>
          <p:nvPr/>
        </p:nvPicPr>
        <p:blipFill>
          <a:blip r:embed="rId4"/>
          <a:srcRect l="59735" t="0" r="19759" b="0"/>
          <a:stretch/>
        </p:blipFill>
        <p:spPr>
          <a:xfrm>
            <a:off x="6939000" y="1212840"/>
            <a:ext cx="1147680" cy="4259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26" name="Picture 5" descr=""/>
          <p:cNvPicPr/>
          <p:nvPr/>
        </p:nvPicPr>
        <p:blipFill>
          <a:blip r:embed="rId5"/>
          <a:srcRect l="79738" t="0" r="0" b="0"/>
          <a:stretch/>
        </p:blipFill>
        <p:spPr>
          <a:xfrm>
            <a:off x="8697960" y="1212840"/>
            <a:ext cx="1133280" cy="4259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est o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117880" y="1203120"/>
            <a:ext cx="88279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tion 1.0b has the best business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line from London to Manchester with diverging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line to Birming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rvices between all three 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ill costs more than the revenue and benefit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ving built this infrastructure you need to get better value from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rcRect l="19857" t="0" r="59653" b="0"/>
          <a:stretch/>
        </p:blipFill>
        <p:spPr>
          <a:xfrm>
            <a:off x="3443400" y="1212840"/>
            <a:ext cx="1146240" cy="4259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4557E-006 -4.94977E-006 L -0.23592 -4.94977E-006 E">
                                      <p:cBhvr>
                                        <p:cTn id="78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5" descr="Map2"/>
          <p:cNvPicPr/>
          <p:nvPr/>
        </p:nvPicPr>
        <p:blipFill>
          <a:blip r:embed="rId1">
            <a:grayscl/>
          </a:blip>
          <a:stretch/>
        </p:blipFill>
        <p:spPr>
          <a:xfrm>
            <a:off x="4870440" y="318960"/>
            <a:ext cx="4676760" cy="59770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ooking at extra destin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188800" y="1130040"/>
            <a:ext cx="62420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rr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asg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in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Oval 6"/>
          <p:cNvGrpSpPr/>
          <p:nvPr/>
        </p:nvGrpSpPr>
        <p:grpSpPr>
          <a:xfrm>
            <a:off x="6559560" y="2365200"/>
            <a:ext cx="390600" cy="390600"/>
            <a:chOff x="6559560" y="2365200"/>
            <a:chExt cx="390600" cy="390600"/>
          </a:xfrm>
        </p:grpSpPr>
        <p:pic>
          <p:nvPicPr>
            <p:cNvPr id="334" name="Oval 6" descr=""/>
            <p:cNvPicPr/>
            <p:nvPr/>
          </p:nvPicPr>
          <p:blipFill>
            <a:blip r:embed="rId2"/>
            <a:stretch/>
          </p:blipFill>
          <p:spPr>
            <a:xfrm>
              <a:off x="6559560" y="2365200"/>
              <a:ext cx="390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638760" y="2446200"/>
              <a:ext cx="17964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Oval 7"/>
          <p:cNvGrpSpPr/>
          <p:nvPr/>
        </p:nvGrpSpPr>
        <p:grpSpPr>
          <a:xfrm>
            <a:off x="7066080" y="3505320"/>
            <a:ext cx="388800" cy="390240"/>
            <a:chOff x="7066080" y="3505320"/>
            <a:chExt cx="388800" cy="390240"/>
          </a:xfrm>
        </p:grpSpPr>
        <p:pic>
          <p:nvPicPr>
            <p:cNvPr id="337" name="Oval 7" descr=""/>
            <p:cNvPicPr/>
            <p:nvPr/>
          </p:nvPicPr>
          <p:blipFill>
            <a:blip r:embed="rId3"/>
            <a:stretch/>
          </p:blipFill>
          <p:spPr>
            <a:xfrm>
              <a:off x="7066080" y="3505320"/>
              <a:ext cx="38880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145280" y="3586320"/>
              <a:ext cx="1778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Oval 8"/>
          <p:cNvGrpSpPr/>
          <p:nvPr/>
        </p:nvGrpSpPr>
        <p:grpSpPr>
          <a:xfrm>
            <a:off x="6918480" y="2341440"/>
            <a:ext cx="384120" cy="382680"/>
            <a:chOff x="6918480" y="2341440"/>
            <a:chExt cx="384120" cy="382680"/>
          </a:xfrm>
        </p:grpSpPr>
        <p:pic>
          <p:nvPicPr>
            <p:cNvPr id="340" name="Oval 8" descr=""/>
            <p:cNvPicPr/>
            <p:nvPr/>
          </p:nvPicPr>
          <p:blipFill>
            <a:blip r:embed="rId4"/>
            <a:stretch/>
          </p:blipFill>
          <p:spPr>
            <a:xfrm>
              <a:off x="6918480" y="2341440"/>
              <a:ext cx="38412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6996240" y="2419200"/>
              <a:ext cx="179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Oval 10"/>
          <p:cNvGrpSpPr/>
          <p:nvPr/>
        </p:nvGrpSpPr>
        <p:grpSpPr>
          <a:xfrm>
            <a:off x="7186680" y="3833640"/>
            <a:ext cx="390600" cy="390600"/>
            <a:chOff x="7186680" y="3833640"/>
            <a:chExt cx="390600" cy="390600"/>
          </a:xfrm>
        </p:grpSpPr>
        <p:pic>
          <p:nvPicPr>
            <p:cNvPr id="343" name="Oval 10" descr=""/>
            <p:cNvPicPr/>
            <p:nvPr/>
          </p:nvPicPr>
          <p:blipFill>
            <a:blip r:embed="rId5"/>
            <a:stretch/>
          </p:blipFill>
          <p:spPr>
            <a:xfrm>
              <a:off x="7186680" y="3833640"/>
              <a:ext cx="390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267680" y="3914640"/>
              <a:ext cx="179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Oval 11"/>
          <p:cNvGrpSpPr/>
          <p:nvPr/>
        </p:nvGrpSpPr>
        <p:grpSpPr>
          <a:xfrm>
            <a:off x="6980400" y="3760920"/>
            <a:ext cx="384120" cy="384120"/>
            <a:chOff x="6980400" y="3760920"/>
            <a:chExt cx="384120" cy="384120"/>
          </a:xfrm>
        </p:grpSpPr>
        <p:pic>
          <p:nvPicPr>
            <p:cNvPr id="346" name="Oval 11" descr=""/>
            <p:cNvPicPr/>
            <p:nvPr/>
          </p:nvPicPr>
          <p:blipFill>
            <a:blip r:embed="rId6"/>
            <a:stretch/>
          </p:blipFill>
          <p:spPr>
            <a:xfrm>
              <a:off x="6980400" y="376092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58160" y="3838680"/>
              <a:ext cx="179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Oval 9"/>
          <p:cNvGrpSpPr/>
          <p:nvPr/>
        </p:nvGrpSpPr>
        <p:grpSpPr>
          <a:xfrm>
            <a:off x="7454880" y="3486240"/>
            <a:ext cx="384120" cy="390600"/>
            <a:chOff x="7454880" y="3486240"/>
            <a:chExt cx="384120" cy="390600"/>
          </a:xfrm>
        </p:grpSpPr>
        <p:pic>
          <p:nvPicPr>
            <p:cNvPr id="349" name="Oval 9" descr=""/>
            <p:cNvPicPr/>
            <p:nvPr/>
          </p:nvPicPr>
          <p:blipFill>
            <a:blip r:embed="rId7"/>
            <a:stretch/>
          </p:blipFill>
          <p:spPr>
            <a:xfrm>
              <a:off x="7454880" y="3486240"/>
              <a:ext cx="3841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34440" y="3567240"/>
              <a:ext cx="179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case for Leeds and the North E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don to Leeds via Manchester is a comprom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get a comparable step change in journey time improvements from London, Leeds and the north east needs a dedicated l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dedicated line would mean a Leeds-London journey time of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0mins against 1hr 50mins via Manchester and 2hr 8mins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rge incremental costs – barrier of the Penn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xt, we will develop a business case for London to North 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re developing other solutions to improve trans-Pennine conn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panded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f-contained lines to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verpool / Warr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ing Glasgow and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in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 combinations of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f-contained lines, plu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unning on existing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tion MB1.6 has best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: cost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5532480" y="1224000"/>
            <a:ext cx="5413320" cy="4248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panded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16000" y="1203120"/>
            <a:ext cx="49687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r preferred option is 1.4.1 with a marginally reduced BCR but the highest value to the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enables a complete recast of West Coast timetable to strengthen commuter, regional and freight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all potential capacity generating more revenue and bigger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5532480" y="1224000"/>
            <a:ext cx="5413320" cy="4248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bout Heathr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76000" y="1203120"/>
            <a:ext cx="50403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good transpor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to connect to Heath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Heathrow connection 2.8m air passengers per year shift to r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hrow connectivity woul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tract 1m extra passengers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rail through modal shif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om air and c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D:\Network Rail\From Client\Presentation pix\New\Heathrow-t5[1].jpg"/>
          <p:cNvPicPr/>
          <p:nvPr/>
        </p:nvPicPr>
        <p:blipFill>
          <a:blip r:embed="rId1"/>
          <a:srcRect l="24973" t="0" r="10205" b="5455"/>
          <a:stretch/>
        </p:blipFill>
        <p:spPr>
          <a:xfrm>
            <a:off x="5761080" y="1224000"/>
            <a:ext cx="5184720" cy="4248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bout Heathr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4" descr="Heathrow options"/>
          <p:cNvPicPr/>
          <p:nvPr/>
        </p:nvPicPr>
        <p:blipFill>
          <a:blip r:embed="rId1"/>
          <a:srcRect l="49764" t="0" r="0" b="0"/>
          <a:stretch/>
        </p:blipFill>
        <p:spPr>
          <a:xfrm>
            <a:off x="6189840" y="1224000"/>
            <a:ext cx="4327200" cy="4248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64" name="Picture 4" descr="Heathrow options"/>
          <p:cNvPicPr/>
          <p:nvPr/>
        </p:nvPicPr>
        <p:blipFill>
          <a:blip r:embed="rId2"/>
          <a:srcRect l="0" t="0" r="50594" b="0"/>
          <a:stretch/>
        </p:blipFill>
        <p:spPr>
          <a:xfrm>
            <a:off x="1004760" y="1224000"/>
            <a:ext cx="4256280" cy="4248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onnecting with HS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76000" y="1152000"/>
            <a:ext cx="49892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fficient and effective interchange with HS1 can increase ridership of new line by up to 0.5m air passengers, without any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cal connection with HS1 could further increase passengers by 0.3m but at significant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_MG_8500"/>
          <p:cNvPicPr/>
          <p:nvPr/>
        </p:nvPicPr>
        <p:blipFill>
          <a:blip r:embed="rId1"/>
          <a:srcRect l="11212" t="0" r="7426" b="0"/>
          <a:stretch/>
        </p:blipFill>
        <p:spPr>
          <a:xfrm>
            <a:off x="5761080" y="1224000"/>
            <a:ext cx="5184720" cy="4248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magine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ving Glasgow at 6:45am and arriving in central London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 9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D:\Network Rail\From Client\Presentation pix\New\Glasgow.jpg"/>
          <p:cNvPicPr/>
          <p:nvPr/>
        </p:nvPicPr>
        <p:blipFill>
          <a:blip r:embed="rId1"/>
          <a:srcRect l="0" t="12521" r="0" b="12282"/>
          <a:stretch/>
        </p:blipFill>
        <p:spPr>
          <a:xfrm>
            <a:off x="5905440" y="2328840"/>
            <a:ext cx="5040360" cy="29527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9" name="Picture 4" descr="D:\Network Rail\From Client\Presentation pix\New\Glasgow.jpg"/>
          <p:cNvPicPr/>
          <p:nvPr/>
        </p:nvPicPr>
        <p:blipFill>
          <a:blip r:embed="rId2"/>
          <a:srcRect l="0" t="12250" r="0" b="14526"/>
          <a:stretch/>
        </p:blipFill>
        <p:spPr>
          <a:xfrm>
            <a:off x="576360" y="2328840"/>
            <a:ext cx="5040360" cy="29527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formance modelling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200mph t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 time train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formance will increas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aning even mor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duced journe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6" descr="新幹線集合写真"/>
          <p:cNvPicPr/>
          <p:nvPr/>
        </p:nvPicPr>
        <p:blipFill>
          <a:blip r:embed="rId1"/>
          <a:srcRect l="0" t="0" r="9779" b="0"/>
          <a:stretch/>
        </p:blipFill>
        <p:spPr>
          <a:xfrm>
            <a:off x="5761080" y="1224000"/>
            <a:ext cx="5184720" cy="4248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66"/>
          <p:cNvSpPr/>
          <p:nvPr/>
        </p:nvSpPr>
        <p:spPr>
          <a:xfrm>
            <a:off x="3192480" y="1184400"/>
            <a:ext cx="7821720" cy="492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core pro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D:\Network Rail\GFX\RoutePlan_v4.jpg"/>
          <p:cNvPicPr/>
          <p:nvPr/>
        </p:nvPicPr>
        <p:blipFill>
          <a:blip r:embed="rId1"/>
          <a:stretch/>
        </p:blipFill>
        <p:spPr>
          <a:xfrm>
            <a:off x="576360" y="1224000"/>
            <a:ext cx="2477880" cy="4248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74" name="TextBox 10"/>
          <p:cNvSpPr/>
          <p:nvPr/>
        </p:nvSpPr>
        <p:spPr>
          <a:xfrm>
            <a:off x="9482040" y="1244520"/>
            <a:ext cx="44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1"/>
          <p:cNvSpPr/>
          <p:nvPr/>
        </p:nvSpPr>
        <p:spPr>
          <a:xfrm>
            <a:off x="499752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0"/>
          <p:cNvSpPr/>
          <p:nvPr/>
        </p:nvSpPr>
        <p:spPr>
          <a:xfrm>
            <a:off x="982656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1"/>
          <p:cNvSpPr/>
          <p:nvPr/>
        </p:nvSpPr>
        <p:spPr>
          <a:xfrm>
            <a:off x="10172880" y="1244520"/>
            <a:ext cx="441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3"/>
          <p:cNvSpPr/>
          <p:nvPr/>
        </p:nvSpPr>
        <p:spPr>
          <a:xfrm>
            <a:off x="3160080" y="212724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dinbur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4"/>
          <p:cNvSpPr/>
          <p:nvPr/>
        </p:nvSpPr>
        <p:spPr>
          <a:xfrm>
            <a:off x="3160080" y="25844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5"/>
          <p:cNvSpPr/>
          <p:nvPr/>
        </p:nvSpPr>
        <p:spPr>
          <a:xfrm>
            <a:off x="3160080" y="304164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iver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6"/>
          <p:cNvSpPr/>
          <p:nvPr/>
        </p:nvSpPr>
        <p:spPr>
          <a:xfrm>
            <a:off x="3156840" y="349884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arr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7"/>
          <p:cNvSpPr/>
          <p:nvPr/>
        </p:nvSpPr>
        <p:spPr>
          <a:xfrm>
            <a:off x="3163320" y="395604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nch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8"/>
          <p:cNvSpPr/>
          <p:nvPr/>
        </p:nvSpPr>
        <p:spPr>
          <a:xfrm>
            <a:off x="3162240" y="441324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irming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3158280" y="487044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0"/>
          <p:cNvSpPr/>
          <p:nvPr/>
        </p:nvSpPr>
        <p:spPr>
          <a:xfrm>
            <a:off x="3160080" y="16700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asg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1"/>
          <p:cNvSpPr/>
          <p:nvPr/>
        </p:nvSpPr>
        <p:spPr>
          <a:xfrm>
            <a:off x="3159000" y="116856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umber of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ri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2"/>
          <p:cNvSpPr/>
          <p:nvPr/>
        </p:nvSpPr>
        <p:spPr>
          <a:xfrm>
            <a:off x="499752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3"/>
          <p:cNvSpPr/>
          <p:nvPr/>
        </p:nvSpPr>
        <p:spPr>
          <a:xfrm>
            <a:off x="534348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4"/>
          <p:cNvSpPr/>
          <p:nvPr/>
        </p:nvSpPr>
        <p:spPr>
          <a:xfrm>
            <a:off x="603252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5"/>
          <p:cNvSpPr/>
          <p:nvPr/>
        </p:nvSpPr>
        <p:spPr>
          <a:xfrm>
            <a:off x="568800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6"/>
          <p:cNvSpPr/>
          <p:nvPr/>
        </p:nvSpPr>
        <p:spPr>
          <a:xfrm>
            <a:off x="6378480" y="5178600"/>
            <a:ext cx="441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7"/>
          <p:cNvSpPr/>
          <p:nvPr/>
        </p:nvSpPr>
        <p:spPr>
          <a:xfrm>
            <a:off x="9482040" y="5178600"/>
            <a:ext cx="44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8"/>
          <p:cNvSpPr/>
          <p:nvPr/>
        </p:nvSpPr>
        <p:spPr>
          <a:xfrm>
            <a:off x="465300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39"/>
          <p:cNvSpPr/>
          <p:nvPr/>
        </p:nvSpPr>
        <p:spPr>
          <a:xfrm>
            <a:off x="879156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0"/>
          <p:cNvSpPr/>
          <p:nvPr/>
        </p:nvSpPr>
        <p:spPr>
          <a:xfrm>
            <a:off x="844704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1"/>
          <p:cNvSpPr/>
          <p:nvPr/>
        </p:nvSpPr>
        <p:spPr>
          <a:xfrm>
            <a:off x="8102520" y="5178600"/>
            <a:ext cx="44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2"/>
          <p:cNvSpPr/>
          <p:nvPr/>
        </p:nvSpPr>
        <p:spPr>
          <a:xfrm>
            <a:off x="7758000" y="5178600"/>
            <a:ext cx="44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3"/>
          <p:cNvSpPr/>
          <p:nvPr/>
        </p:nvSpPr>
        <p:spPr>
          <a:xfrm>
            <a:off x="741204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4"/>
          <p:cNvSpPr/>
          <p:nvPr/>
        </p:nvSpPr>
        <p:spPr>
          <a:xfrm>
            <a:off x="706752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5"/>
          <p:cNvSpPr/>
          <p:nvPr/>
        </p:nvSpPr>
        <p:spPr>
          <a:xfrm>
            <a:off x="672300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7"/>
          <p:cNvSpPr/>
          <p:nvPr/>
        </p:nvSpPr>
        <p:spPr>
          <a:xfrm>
            <a:off x="9826560" y="5178600"/>
            <a:ext cx="44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8"/>
          <p:cNvSpPr/>
          <p:nvPr/>
        </p:nvSpPr>
        <p:spPr>
          <a:xfrm>
            <a:off x="10172880" y="5178600"/>
            <a:ext cx="44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9"/>
          <p:cNvSpPr/>
          <p:nvPr/>
        </p:nvSpPr>
        <p:spPr>
          <a:xfrm>
            <a:off x="9137520" y="5178600"/>
            <a:ext cx="44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9"/>
          <p:cNvSpPr/>
          <p:nvPr/>
        </p:nvSpPr>
        <p:spPr>
          <a:xfrm>
            <a:off x="10517040" y="1244520"/>
            <a:ext cx="44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6"/>
          <p:cNvSpPr/>
          <p:nvPr/>
        </p:nvSpPr>
        <p:spPr>
          <a:xfrm>
            <a:off x="10517040" y="5178600"/>
            <a:ext cx="44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0"/>
          <p:cNvSpPr/>
          <p:nvPr/>
        </p:nvSpPr>
        <p:spPr>
          <a:xfrm>
            <a:off x="534348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51"/>
          <p:cNvSpPr/>
          <p:nvPr/>
        </p:nvSpPr>
        <p:spPr>
          <a:xfrm>
            <a:off x="568800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2"/>
          <p:cNvSpPr/>
          <p:nvPr/>
        </p:nvSpPr>
        <p:spPr>
          <a:xfrm>
            <a:off x="6378480" y="1244520"/>
            <a:ext cx="441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3"/>
          <p:cNvSpPr/>
          <p:nvPr/>
        </p:nvSpPr>
        <p:spPr>
          <a:xfrm>
            <a:off x="672300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4"/>
          <p:cNvSpPr/>
          <p:nvPr/>
        </p:nvSpPr>
        <p:spPr>
          <a:xfrm>
            <a:off x="706752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5"/>
          <p:cNvSpPr/>
          <p:nvPr/>
        </p:nvSpPr>
        <p:spPr>
          <a:xfrm>
            <a:off x="741204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6"/>
          <p:cNvSpPr/>
          <p:nvPr/>
        </p:nvSpPr>
        <p:spPr>
          <a:xfrm>
            <a:off x="7758000" y="1244520"/>
            <a:ext cx="44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7"/>
          <p:cNvSpPr/>
          <p:nvPr/>
        </p:nvSpPr>
        <p:spPr>
          <a:xfrm>
            <a:off x="8102520" y="1244520"/>
            <a:ext cx="44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8"/>
          <p:cNvSpPr/>
          <p:nvPr/>
        </p:nvSpPr>
        <p:spPr>
          <a:xfrm>
            <a:off x="844704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9"/>
          <p:cNvSpPr/>
          <p:nvPr/>
        </p:nvSpPr>
        <p:spPr>
          <a:xfrm>
            <a:off x="879156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0"/>
          <p:cNvSpPr/>
          <p:nvPr/>
        </p:nvSpPr>
        <p:spPr>
          <a:xfrm>
            <a:off x="9137520" y="1244520"/>
            <a:ext cx="44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1"/>
          <p:cNvSpPr/>
          <p:nvPr/>
        </p:nvSpPr>
        <p:spPr>
          <a:xfrm>
            <a:off x="603252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3"/>
          <p:cNvSpPr/>
          <p:nvPr/>
        </p:nvSpPr>
        <p:spPr>
          <a:xfrm>
            <a:off x="4653000" y="1244520"/>
            <a:ext cx="442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65"/>
          <p:cNvGrpSpPr/>
          <p:nvPr/>
        </p:nvGrpSpPr>
        <p:grpSpPr>
          <a:xfrm>
            <a:off x="4780080" y="1728720"/>
            <a:ext cx="6068880" cy="3446640"/>
            <a:chOff x="4780080" y="1728720"/>
            <a:chExt cx="6068880" cy="3446640"/>
          </a:xfrm>
        </p:grpSpPr>
        <p:sp>
          <p:nvSpPr>
            <p:cNvPr id="420" name="Straight Connector 161"/>
            <p:cNvSpPr/>
            <p:nvPr/>
          </p:nvSpPr>
          <p:spPr>
            <a:xfrm flipH="1">
              <a:off x="10649160" y="2421000"/>
              <a:ext cx="1440" cy="2013120"/>
            </a:xfrm>
            <a:prstGeom prst="line">
              <a:avLst/>
            </a:prstGeom>
            <a:ln w="76320">
              <a:solidFill>
                <a:srgbClr val="91a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158"/>
            <p:cNvSpPr/>
            <p:nvPr/>
          </p:nvSpPr>
          <p:spPr>
            <a:xfrm flipH="1">
              <a:off x="10313280" y="2421000"/>
              <a:ext cx="1440" cy="2013120"/>
            </a:xfrm>
            <a:prstGeom prst="line">
              <a:avLst/>
            </a:prstGeom>
            <a:ln w="76320">
              <a:solidFill>
                <a:srgbClr val="91ab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155"/>
            <p:cNvSpPr/>
            <p:nvPr/>
          </p:nvSpPr>
          <p:spPr>
            <a:xfrm flipH="1">
              <a:off x="9984240" y="1981440"/>
              <a:ext cx="1440" cy="24526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53"/>
            <p:cNvSpPr/>
            <p:nvPr/>
          </p:nvSpPr>
          <p:spPr>
            <a:xfrm flipH="1">
              <a:off x="9648720" y="1981440"/>
              <a:ext cx="1440" cy="24526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Straight Connector 142"/>
            <p:cNvSpPr/>
            <p:nvPr/>
          </p:nvSpPr>
          <p:spPr>
            <a:xfrm flipH="1">
              <a:off x="8287560" y="1981440"/>
              <a:ext cx="1440" cy="2893320"/>
            </a:xfrm>
            <a:prstGeom prst="line">
              <a:avLst/>
            </a:prstGeom>
            <a:ln w="76320">
              <a:solidFill>
                <a:srgbClr val="3393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Straight Connector 139"/>
            <p:cNvSpPr/>
            <p:nvPr/>
          </p:nvSpPr>
          <p:spPr>
            <a:xfrm flipH="1">
              <a:off x="8623440" y="1981440"/>
              <a:ext cx="1440" cy="2893320"/>
            </a:xfrm>
            <a:prstGeom prst="line">
              <a:avLst/>
            </a:prstGeom>
            <a:ln w="76320">
              <a:solidFill>
                <a:srgbClr val="3393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traight Connector 135"/>
            <p:cNvSpPr/>
            <p:nvPr/>
          </p:nvSpPr>
          <p:spPr>
            <a:xfrm flipH="1">
              <a:off x="7952040" y="3292560"/>
              <a:ext cx="1440" cy="1582200"/>
            </a:xfrm>
            <a:prstGeom prst="line">
              <a:avLst/>
            </a:prstGeom>
            <a:ln w="7632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traight Connector 133"/>
            <p:cNvSpPr/>
            <p:nvPr/>
          </p:nvSpPr>
          <p:spPr>
            <a:xfrm flipH="1">
              <a:off x="7616160" y="3292560"/>
              <a:ext cx="1440" cy="1582200"/>
            </a:xfrm>
            <a:prstGeom prst="line">
              <a:avLst/>
            </a:prstGeom>
            <a:ln w="7632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traight Connector 111"/>
            <p:cNvSpPr/>
            <p:nvPr/>
          </p:nvSpPr>
          <p:spPr>
            <a:xfrm flipH="1">
              <a:off x="4929840" y="4638960"/>
              <a:ext cx="1440" cy="23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112"/>
            <p:cNvSpPr/>
            <p:nvPr/>
          </p:nvSpPr>
          <p:spPr>
            <a:xfrm flipH="1">
              <a:off x="5265720" y="4638960"/>
              <a:ext cx="1440" cy="23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115"/>
            <p:cNvSpPr/>
            <p:nvPr/>
          </p:nvSpPr>
          <p:spPr>
            <a:xfrm flipH="1">
              <a:off x="5601240" y="4638960"/>
              <a:ext cx="1440" cy="23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traight Connector 118"/>
            <p:cNvSpPr/>
            <p:nvPr/>
          </p:nvSpPr>
          <p:spPr>
            <a:xfrm flipH="1">
              <a:off x="5937120" y="4638960"/>
              <a:ext cx="1440" cy="23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Oval 64"/>
            <p:cNvGrpSpPr/>
            <p:nvPr/>
          </p:nvGrpSpPr>
          <p:grpSpPr>
            <a:xfrm>
              <a:off x="5113800" y="4834800"/>
              <a:ext cx="351720" cy="340560"/>
              <a:chOff x="5113800" y="4834800"/>
              <a:chExt cx="351720" cy="340560"/>
            </a:xfrm>
          </p:grpSpPr>
          <p:pic>
            <p:nvPicPr>
              <p:cNvPr id="433" name="Oval 64" descr=""/>
              <p:cNvPicPr/>
              <p:nvPr/>
            </p:nvPicPr>
            <p:blipFill>
              <a:blip r:embed="rId2"/>
              <a:stretch/>
            </p:blipFill>
            <p:spPr>
              <a:xfrm>
                <a:off x="5113800" y="4834800"/>
                <a:ext cx="35172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5189760" y="49053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Oval 65"/>
            <p:cNvGrpSpPr/>
            <p:nvPr/>
          </p:nvGrpSpPr>
          <p:grpSpPr>
            <a:xfrm>
              <a:off x="5453640" y="4834800"/>
              <a:ext cx="345600" cy="340560"/>
              <a:chOff x="5453640" y="4834800"/>
              <a:chExt cx="345600" cy="340560"/>
            </a:xfrm>
          </p:grpSpPr>
          <p:pic>
            <p:nvPicPr>
              <p:cNvPr id="436" name="Oval 65" descr=""/>
              <p:cNvPicPr/>
              <p:nvPr/>
            </p:nvPicPr>
            <p:blipFill>
              <a:blip r:embed="rId3"/>
              <a:stretch/>
            </p:blipFill>
            <p:spPr>
              <a:xfrm>
                <a:off x="5453640" y="483480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5525640" y="4905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Oval 66"/>
            <p:cNvGrpSpPr/>
            <p:nvPr/>
          </p:nvGrpSpPr>
          <p:grpSpPr>
            <a:xfrm>
              <a:off x="5787360" y="4834800"/>
              <a:ext cx="345600" cy="340560"/>
              <a:chOff x="5787360" y="4834800"/>
              <a:chExt cx="345600" cy="340560"/>
            </a:xfrm>
          </p:grpSpPr>
          <p:pic>
            <p:nvPicPr>
              <p:cNvPr id="439" name="Oval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5787360" y="483480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5861160" y="4905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Oval 67"/>
            <p:cNvGrpSpPr/>
            <p:nvPr/>
          </p:nvGrpSpPr>
          <p:grpSpPr>
            <a:xfrm>
              <a:off x="6461280" y="4834800"/>
              <a:ext cx="345600" cy="340560"/>
              <a:chOff x="6461280" y="4834800"/>
              <a:chExt cx="345600" cy="340560"/>
            </a:xfrm>
          </p:grpSpPr>
          <p:pic>
            <p:nvPicPr>
              <p:cNvPr id="442" name="Oval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1280" y="483480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6532920" y="4905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Oval 68"/>
            <p:cNvGrpSpPr/>
            <p:nvPr/>
          </p:nvGrpSpPr>
          <p:grpSpPr>
            <a:xfrm>
              <a:off x="4780080" y="4834800"/>
              <a:ext cx="345600" cy="340560"/>
              <a:chOff x="4780080" y="4834800"/>
              <a:chExt cx="345600" cy="340560"/>
            </a:xfrm>
          </p:grpSpPr>
          <p:pic>
            <p:nvPicPr>
              <p:cNvPr id="445" name="Oval 68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0080" y="483480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4853880" y="4905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Oval 69"/>
            <p:cNvGrpSpPr/>
            <p:nvPr/>
          </p:nvGrpSpPr>
          <p:grpSpPr>
            <a:xfrm>
              <a:off x="6795000" y="4834800"/>
              <a:ext cx="345600" cy="340560"/>
              <a:chOff x="6795000" y="4834800"/>
              <a:chExt cx="345600" cy="340560"/>
            </a:xfrm>
          </p:grpSpPr>
          <p:pic>
            <p:nvPicPr>
              <p:cNvPr id="448" name="Oval 69" descr=""/>
              <p:cNvPicPr/>
              <p:nvPr/>
            </p:nvPicPr>
            <p:blipFill>
              <a:blip r:embed="rId7"/>
              <a:stretch/>
            </p:blipFill>
            <p:spPr>
              <a:xfrm>
                <a:off x="6795000" y="483480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6868440" y="4905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Oval 70"/>
            <p:cNvGrpSpPr/>
            <p:nvPr/>
          </p:nvGrpSpPr>
          <p:grpSpPr>
            <a:xfrm>
              <a:off x="7128720" y="4834800"/>
              <a:ext cx="351720" cy="340560"/>
              <a:chOff x="7128720" y="4834800"/>
              <a:chExt cx="351720" cy="340560"/>
            </a:xfrm>
          </p:grpSpPr>
          <p:pic>
            <p:nvPicPr>
              <p:cNvPr id="451" name="Oval 70" descr=""/>
              <p:cNvPicPr/>
              <p:nvPr/>
            </p:nvPicPr>
            <p:blipFill>
              <a:blip r:embed="rId8"/>
              <a:stretch/>
            </p:blipFill>
            <p:spPr>
              <a:xfrm>
                <a:off x="7128720" y="4834800"/>
                <a:ext cx="35172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7204320" y="49053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Oval 71"/>
            <p:cNvGrpSpPr/>
            <p:nvPr/>
          </p:nvGrpSpPr>
          <p:grpSpPr>
            <a:xfrm>
              <a:off x="7468560" y="4834800"/>
              <a:ext cx="345600" cy="340560"/>
              <a:chOff x="7468560" y="4834800"/>
              <a:chExt cx="345600" cy="340560"/>
            </a:xfrm>
          </p:grpSpPr>
          <p:pic>
            <p:nvPicPr>
              <p:cNvPr id="454" name="Oval 71" descr=""/>
              <p:cNvPicPr/>
              <p:nvPr/>
            </p:nvPicPr>
            <p:blipFill>
              <a:blip r:embed="rId9"/>
              <a:stretch/>
            </p:blipFill>
            <p:spPr>
              <a:xfrm>
                <a:off x="7468560" y="483480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7539840" y="4905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Oval 72"/>
            <p:cNvGrpSpPr/>
            <p:nvPr/>
          </p:nvGrpSpPr>
          <p:grpSpPr>
            <a:xfrm>
              <a:off x="7802640" y="4834800"/>
              <a:ext cx="345600" cy="340560"/>
              <a:chOff x="7802640" y="4834800"/>
              <a:chExt cx="345600" cy="340560"/>
            </a:xfrm>
          </p:grpSpPr>
          <p:pic>
            <p:nvPicPr>
              <p:cNvPr id="457" name="Oval 72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02640" y="483480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7876080" y="4905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Oval 73"/>
            <p:cNvGrpSpPr/>
            <p:nvPr/>
          </p:nvGrpSpPr>
          <p:grpSpPr>
            <a:xfrm>
              <a:off x="8136360" y="4834800"/>
              <a:ext cx="351720" cy="340560"/>
              <a:chOff x="8136360" y="4834800"/>
              <a:chExt cx="351720" cy="340560"/>
            </a:xfrm>
          </p:grpSpPr>
          <p:pic>
            <p:nvPicPr>
              <p:cNvPr id="460" name="Oval 73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360" y="4834800"/>
                <a:ext cx="35172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8211600" y="49053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Oval 74"/>
            <p:cNvGrpSpPr/>
            <p:nvPr/>
          </p:nvGrpSpPr>
          <p:grpSpPr>
            <a:xfrm>
              <a:off x="8476200" y="4834800"/>
              <a:ext cx="345600" cy="340560"/>
              <a:chOff x="8476200" y="4834800"/>
              <a:chExt cx="345600" cy="340560"/>
            </a:xfrm>
          </p:grpSpPr>
          <p:pic>
            <p:nvPicPr>
              <p:cNvPr id="463" name="Oval 7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476200" y="483480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8547480" y="4905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Oval 75"/>
            <p:cNvGrpSpPr/>
            <p:nvPr/>
          </p:nvGrpSpPr>
          <p:grpSpPr>
            <a:xfrm>
              <a:off x="8810280" y="4834800"/>
              <a:ext cx="345600" cy="340560"/>
              <a:chOff x="8810280" y="4834800"/>
              <a:chExt cx="345600" cy="340560"/>
            </a:xfrm>
          </p:grpSpPr>
          <p:pic>
            <p:nvPicPr>
              <p:cNvPr id="466" name="Oval 75" descr=""/>
              <p:cNvPicPr/>
              <p:nvPr/>
            </p:nvPicPr>
            <p:blipFill>
              <a:blip r:embed="rId13"/>
              <a:stretch/>
            </p:blipFill>
            <p:spPr>
              <a:xfrm>
                <a:off x="8810280" y="483480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8883360" y="4905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Oval 76"/>
            <p:cNvGrpSpPr/>
            <p:nvPr/>
          </p:nvGrpSpPr>
          <p:grpSpPr>
            <a:xfrm>
              <a:off x="9144000" y="4834800"/>
              <a:ext cx="351720" cy="340560"/>
              <a:chOff x="9144000" y="4834800"/>
              <a:chExt cx="351720" cy="340560"/>
            </a:xfrm>
          </p:grpSpPr>
          <p:pic>
            <p:nvPicPr>
              <p:cNvPr id="469" name="Oval 7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144000" y="4834800"/>
                <a:ext cx="35172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9218880" y="49053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Oval 77"/>
            <p:cNvGrpSpPr/>
            <p:nvPr/>
          </p:nvGrpSpPr>
          <p:grpSpPr>
            <a:xfrm>
              <a:off x="6121440" y="4834800"/>
              <a:ext cx="351720" cy="340560"/>
              <a:chOff x="6121440" y="4834800"/>
              <a:chExt cx="351720" cy="340560"/>
            </a:xfrm>
          </p:grpSpPr>
          <p:pic>
            <p:nvPicPr>
              <p:cNvPr id="472" name="Oval 77" descr=""/>
              <p:cNvPicPr/>
              <p:nvPr/>
            </p:nvPicPr>
            <p:blipFill>
              <a:blip r:embed="rId15"/>
              <a:stretch/>
            </p:blipFill>
            <p:spPr>
              <a:xfrm>
                <a:off x="6121440" y="4834800"/>
                <a:ext cx="35172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6197040" y="49053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Oval 78"/>
            <p:cNvGrpSpPr/>
            <p:nvPr/>
          </p:nvGrpSpPr>
          <p:grpSpPr>
            <a:xfrm>
              <a:off x="5113800" y="4382640"/>
              <a:ext cx="351720" cy="346320"/>
              <a:chOff x="5113800" y="4382640"/>
              <a:chExt cx="351720" cy="346320"/>
            </a:xfrm>
          </p:grpSpPr>
          <p:pic>
            <p:nvPicPr>
              <p:cNvPr id="475" name="Oval 78" descr=""/>
              <p:cNvPicPr/>
              <p:nvPr/>
            </p:nvPicPr>
            <p:blipFill>
              <a:blip r:embed="rId16"/>
              <a:stretch/>
            </p:blipFill>
            <p:spPr>
              <a:xfrm>
                <a:off x="5113800" y="4382640"/>
                <a:ext cx="35172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5189760" y="445572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Oval 79"/>
            <p:cNvGrpSpPr/>
            <p:nvPr/>
          </p:nvGrpSpPr>
          <p:grpSpPr>
            <a:xfrm>
              <a:off x="5453640" y="4382640"/>
              <a:ext cx="345600" cy="346320"/>
              <a:chOff x="5453640" y="4382640"/>
              <a:chExt cx="345600" cy="346320"/>
            </a:xfrm>
          </p:grpSpPr>
          <p:pic>
            <p:nvPicPr>
              <p:cNvPr id="478" name="Oval 79" descr=""/>
              <p:cNvPicPr/>
              <p:nvPr/>
            </p:nvPicPr>
            <p:blipFill>
              <a:blip r:embed="rId17"/>
              <a:stretch/>
            </p:blipFill>
            <p:spPr>
              <a:xfrm>
                <a:off x="5453640" y="4382640"/>
                <a:ext cx="3456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>
                <a:off x="5525640" y="445572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Oval 80"/>
            <p:cNvGrpSpPr/>
            <p:nvPr/>
          </p:nvGrpSpPr>
          <p:grpSpPr>
            <a:xfrm>
              <a:off x="5787360" y="4382640"/>
              <a:ext cx="345600" cy="346320"/>
              <a:chOff x="5787360" y="4382640"/>
              <a:chExt cx="345600" cy="346320"/>
            </a:xfrm>
          </p:grpSpPr>
          <p:pic>
            <p:nvPicPr>
              <p:cNvPr id="481" name="Oval 80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87360" y="4382640"/>
                <a:ext cx="3456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"/>
              <p:cNvSpPr/>
              <p:nvPr/>
            </p:nvSpPr>
            <p:spPr>
              <a:xfrm>
                <a:off x="5861160" y="445572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Oval 81"/>
            <p:cNvGrpSpPr/>
            <p:nvPr/>
          </p:nvGrpSpPr>
          <p:grpSpPr>
            <a:xfrm>
              <a:off x="6461280" y="3948120"/>
              <a:ext cx="345600" cy="346320"/>
              <a:chOff x="6461280" y="3948120"/>
              <a:chExt cx="345600" cy="346320"/>
            </a:xfrm>
          </p:grpSpPr>
          <p:pic>
            <p:nvPicPr>
              <p:cNvPr id="484" name="Oval 81" descr=""/>
              <p:cNvPicPr/>
              <p:nvPr/>
            </p:nvPicPr>
            <p:blipFill>
              <a:blip r:embed="rId19"/>
              <a:stretch/>
            </p:blipFill>
            <p:spPr>
              <a:xfrm>
                <a:off x="6461280" y="3948120"/>
                <a:ext cx="3456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6532920" y="40215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Oval 82"/>
            <p:cNvGrpSpPr/>
            <p:nvPr/>
          </p:nvGrpSpPr>
          <p:grpSpPr>
            <a:xfrm>
              <a:off x="4780080" y="4382640"/>
              <a:ext cx="345600" cy="346320"/>
              <a:chOff x="4780080" y="4382640"/>
              <a:chExt cx="345600" cy="346320"/>
            </a:xfrm>
          </p:grpSpPr>
          <p:pic>
            <p:nvPicPr>
              <p:cNvPr id="487" name="Oval 82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80080" y="4382640"/>
                <a:ext cx="3456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4853880" y="445572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Oval 83"/>
            <p:cNvGrpSpPr/>
            <p:nvPr/>
          </p:nvGrpSpPr>
          <p:grpSpPr>
            <a:xfrm>
              <a:off x="6795000" y="3948120"/>
              <a:ext cx="345600" cy="346320"/>
              <a:chOff x="6795000" y="3948120"/>
              <a:chExt cx="345600" cy="346320"/>
            </a:xfrm>
          </p:grpSpPr>
          <p:pic>
            <p:nvPicPr>
              <p:cNvPr id="490" name="Oval 83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95000" y="3948120"/>
                <a:ext cx="3456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>
                <a:off x="6868440" y="40215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Oval 84"/>
            <p:cNvGrpSpPr/>
            <p:nvPr/>
          </p:nvGrpSpPr>
          <p:grpSpPr>
            <a:xfrm>
              <a:off x="7128720" y="3948120"/>
              <a:ext cx="351720" cy="346320"/>
              <a:chOff x="7128720" y="3948120"/>
              <a:chExt cx="351720" cy="346320"/>
            </a:xfrm>
          </p:grpSpPr>
          <p:pic>
            <p:nvPicPr>
              <p:cNvPr id="493" name="Oval 84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28720" y="3948120"/>
                <a:ext cx="35172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>
                <a:off x="7204320" y="40215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Oval 85"/>
            <p:cNvGrpSpPr/>
            <p:nvPr/>
          </p:nvGrpSpPr>
          <p:grpSpPr>
            <a:xfrm>
              <a:off x="7468560" y="3038040"/>
              <a:ext cx="345600" cy="340560"/>
              <a:chOff x="7468560" y="3038040"/>
              <a:chExt cx="345600" cy="340560"/>
            </a:xfrm>
          </p:grpSpPr>
          <p:pic>
            <p:nvPicPr>
              <p:cNvPr id="496" name="Oval 85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68560" y="303804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7539840" y="310968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Oval 86"/>
            <p:cNvGrpSpPr/>
            <p:nvPr/>
          </p:nvGrpSpPr>
          <p:grpSpPr>
            <a:xfrm>
              <a:off x="7802640" y="3038040"/>
              <a:ext cx="345600" cy="340560"/>
              <a:chOff x="7802640" y="3038040"/>
              <a:chExt cx="345600" cy="340560"/>
            </a:xfrm>
          </p:grpSpPr>
          <p:pic>
            <p:nvPicPr>
              <p:cNvPr id="499" name="Oval 86" descr=""/>
              <p:cNvPicPr/>
              <p:nvPr/>
            </p:nvPicPr>
            <p:blipFill>
              <a:blip r:embed="rId24"/>
              <a:stretch/>
            </p:blipFill>
            <p:spPr>
              <a:xfrm>
                <a:off x="7802640" y="303804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>
                <a:off x="7876080" y="310968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Oval 87"/>
            <p:cNvGrpSpPr/>
            <p:nvPr/>
          </p:nvGrpSpPr>
          <p:grpSpPr>
            <a:xfrm>
              <a:off x="8136360" y="1728720"/>
              <a:ext cx="351720" cy="340560"/>
              <a:chOff x="8136360" y="1728720"/>
              <a:chExt cx="351720" cy="340560"/>
            </a:xfrm>
          </p:grpSpPr>
          <p:pic>
            <p:nvPicPr>
              <p:cNvPr id="502" name="Oval 87" descr=""/>
              <p:cNvPicPr/>
              <p:nvPr/>
            </p:nvPicPr>
            <p:blipFill>
              <a:blip r:embed="rId25"/>
              <a:stretch/>
            </p:blipFill>
            <p:spPr>
              <a:xfrm>
                <a:off x="8136360" y="1728720"/>
                <a:ext cx="35172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8211600" y="17985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Oval 88"/>
            <p:cNvGrpSpPr/>
            <p:nvPr/>
          </p:nvGrpSpPr>
          <p:grpSpPr>
            <a:xfrm>
              <a:off x="8476200" y="1728720"/>
              <a:ext cx="345600" cy="340560"/>
              <a:chOff x="8476200" y="1728720"/>
              <a:chExt cx="345600" cy="340560"/>
            </a:xfrm>
          </p:grpSpPr>
          <p:pic>
            <p:nvPicPr>
              <p:cNvPr id="505" name="Oval 88" descr=""/>
              <p:cNvPicPr/>
              <p:nvPr/>
            </p:nvPicPr>
            <p:blipFill>
              <a:blip r:embed="rId26"/>
              <a:stretch/>
            </p:blipFill>
            <p:spPr>
              <a:xfrm>
                <a:off x="8476200" y="172872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8547480" y="17985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Oval 89"/>
            <p:cNvGrpSpPr/>
            <p:nvPr/>
          </p:nvGrpSpPr>
          <p:grpSpPr>
            <a:xfrm>
              <a:off x="10163520" y="2621160"/>
              <a:ext cx="345600" cy="340560"/>
              <a:chOff x="10163520" y="2621160"/>
              <a:chExt cx="345600" cy="340560"/>
            </a:xfrm>
          </p:grpSpPr>
          <p:pic>
            <p:nvPicPr>
              <p:cNvPr id="508" name="Oval 89" descr=""/>
              <p:cNvPicPr/>
              <p:nvPr/>
            </p:nvPicPr>
            <p:blipFill>
              <a:blip r:embed="rId27"/>
              <a:stretch/>
            </p:blipFill>
            <p:spPr>
              <a:xfrm>
                <a:off x="10163520" y="262116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10237320" y="26931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Oval 90"/>
            <p:cNvGrpSpPr/>
            <p:nvPr/>
          </p:nvGrpSpPr>
          <p:grpSpPr>
            <a:xfrm>
              <a:off x="10497240" y="2621160"/>
              <a:ext cx="351720" cy="340560"/>
              <a:chOff x="10497240" y="2621160"/>
              <a:chExt cx="351720" cy="340560"/>
            </a:xfrm>
          </p:grpSpPr>
          <p:pic>
            <p:nvPicPr>
              <p:cNvPr id="511" name="Oval 90" descr=""/>
              <p:cNvPicPr/>
              <p:nvPr/>
            </p:nvPicPr>
            <p:blipFill>
              <a:blip r:embed="rId28"/>
              <a:stretch/>
            </p:blipFill>
            <p:spPr>
              <a:xfrm>
                <a:off x="10497240" y="2621160"/>
                <a:ext cx="35172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>
                <a:off x="10573200" y="26931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Oval 91"/>
            <p:cNvGrpSpPr/>
            <p:nvPr/>
          </p:nvGrpSpPr>
          <p:grpSpPr>
            <a:xfrm>
              <a:off x="6121440" y="3948120"/>
              <a:ext cx="351720" cy="346320"/>
              <a:chOff x="6121440" y="3948120"/>
              <a:chExt cx="351720" cy="346320"/>
            </a:xfrm>
          </p:grpSpPr>
          <p:pic>
            <p:nvPicPr>
              <p:cNvPr id="514" name="Oval 91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21440" y="3948120"/>
                <a:ext cx="35172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6197040" y="40215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Oval 92"/>
            <p:cNvGrpSpPr/>
            <p:nvPr/>
          </p:nvGrpSpPr>
          <p:grpSpPr>
            <a:xfrm>
              <a:off x="7468560" y="3519720"/>
              <a:ext cx="345600" cy="340560"/>
              <a:chOff x="7468560" y="3519720"/>
              <a:chExt cx="345600" cy="340560"/>
            </a:xfrm>
          </p:grpSpPr>
          <p:pic>
            <p:nvPicPr>
              <p:cNvPr id="517" name="Oval 92" descr=""/>
              <p:cNvPicPr/>
              <p:nvPr/>
            </p:nvPicPr>
            <p:blipFill>
              <a:blip r:embed="rId30"/>
              <a:stretch/>
            </p:blipFill>
            <p:spPr>
              <a:xfrm>
                <a:off x="7468560" y="351972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7539840" y="3591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Oval 93"/>
            <p:cNvGrpSpPr/>
            <p:nvPr/>
          </p:nvGrpSpPr>
          <p:grpSpPr>
            <a:xfrm>
              <a:off x="7802640" y="3519720"/>
              <a:ext cx="345600" cy="340560"/>
              <a:chOff x="7802640" y="3519720"/>
              <a:chExt cx="345600" cy="340560"/>
            </a:xfrm>
          </p:grpSpPr>
          <p:pic>
            <p:nvPicPr>
              <p:cNvPr id="520" name="Oval 93" descr=""/>
              <p:cNvPicPr/>
              <p:nvPr/>
            </p:nvPicPr>
            <p:blipFill>
              <a:blip r:embed="rId31"/>
              <a:stretch/>
            </p:blipFill>
            <p:spPr>
              <a:xfrm>
                <a:off x="7802640" y="351972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"/>
              <p:cNvSpPr/>
              <p:nvPr/>
            </p:nvSpPr>
            <p:spPr>
              <a:xfrm>
                <a:off x="7876080" y="35913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Oval 94"/>
            <p:cNvGrpSpPr/>
            <p:nvPr/>
          </p:nvGrpSpPr>
          <p:grpSpPr>
            <a:xfrm>
              <a:off x="8136360" y="2621160"/>
              <a:ext cx="351720" cy="340560"/>
              <a:chOff x="8136360" y="2621160"/>
              <a:chExt cx="351720" cy="340560"/>
            </a:xfrm>
          </p:grpSpPr>
          <p:pic>
            <p:nvPicPr>
              <p:cNvPr id="523" name="Oval 94" descr=""/>
              <p:cNvPicPr/>
              <p:nvPr/>
            </p:nvPicPr>
            <p:blipFill>
              <a:blip r:embed="rId32"/>
              <a:stretch/>
            </p:blipFill>
            <p:spPr>
              <a:xfrm>
                <a:off x="8136360" y="2621160"/>
                <a:ext cx="35172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"/>
              <p:cNvSpPr/>
              <p:nvPr/>
            </p:nvSpPr>
            <p:spPr>
              <a:xfrm>
                <a:off x="8211600" y="26931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Oval 95"/>
            <p:cNvGrpSpPr/>
            <p:nvPr/>
          </p:nvGrpSpPr>
          <p:grpSpPr>
            <a:xfrm>
              <a:off x="8476200" y="2621160"/>
              <a:ext cx="345600" cy="340560"/>
              <a:chOff x="8476200" y="2621160"/>
              <a:chExt cx="345600" cy="340560"/>
            </a:xfrm>
          </p:grpSpPr>
          <p:pic>
            <p:nvPicPr>
              <p:cNvPr id="526" name="Oval 95" descr=""/>
              <p:cNvPicPr/>
              <p:nvPr/>
            </p:nvPicPr>
            <p:blipFill>
              <a:blip r:embed="rId33"/>
              <a:stretch/>
            </p:blipFill>
            <p:spPr>
              <a:xfrm>
                <a:off x="8476200" y="262116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8547480" y="26931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Oval 96"/>
            <p:cNvGrpSpPr/>
            <p:nvPr/>
          </p:nvGrpSpPr>
          <p:grpSpPr>
            <a:xfrm>
              <a:off x="8810280" y="2163240"/>
              <a:ext cx="345600" cy="346320"/>
              <a:chOff x="8810280" y="2163240"/>
              <a:chExt cx="345600" cy="346320"/>
            </a:xfrm>
          </p:grpSpPr>
          <p:pic>
            <p:nvPicPr>
              <p:cNvPr id="529" name="Oval 96" descr=""/>
              <p:cNvPicPr/>
              <p:nvPr/>
            </p:nvPicPr>
            <p:blipFill>
              <a:blip r:embed="rId34"/>
              <a:stretch/>
            </p:blipFill>
            <p:spPr>
              <a:xfrm>
                <a:off x="8810280" y="2163240"/>
                <a:ext cx="3456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"/>
              <p:cNvSpPr/>
              <p:nvPr/>
            </p:nvSpPr>
            <p:spPr>
              <a:xfrm>
                <a:off x="8883360" y="22377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Oval 97"/>
            <p:cNvGrpSpPr/>
            <p:nvPr/>
          </p:nvGrpSpPr>
          <p:grpSpPr>
            <a:xfrm>
              <a:off x="9144000" y="2163240"/>
              <a:ext cx="351720" cy="346320"/>
              <a:chOff x="9144000" y="2163240"/>
              <a:chExt cx="351720" cy="346320"/>
            </a:xfrm>
          </p:grpSpPr>
          <p:pic>
            <p:nvPicPr>
              <p:cNvPr id="532" name="Oval 97" descr=""/>
              <p:cNvPicPr/>
              <p:nvPr/>
            </p:nvPicPr>
            <p:blipFill>
              <a:blip r:embed="rId35"/>
              <a:stretch/>
            </p:blipFill>
            <p:spPr>
              <a:xfrm>
                <a:off x="9144000" y="2163240"/>
                <a:ext cx="35172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3" name=""/>
              <p:cNvSpPr/>
              <p:nvPr/>
            </p:nvSpPr>
            <p:spPr>
              <a:xfrm>
                <a:off x="9218880" y="22377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Oval 98"/>
            <p:cNvGrpSpPr/>
            <p:nvPr/>
          </p:nvGrpSpPr>
          <p:grpSpPr>
            <a:xfrm>
              <a:off x="9501840" y="3948120"/>
              <a:ext cx="345600" cy="346320"/>
              <a:chOff x="9501840" y="3948120"/>
              <a:chExt cx="345600" cy="346320"/>
            </a:xfrm>
          </p:grpSpPr>
          <p:pic>
            <p:nvPicPr>
              <p:cNvPr id="535" name="Oval 98" descr=""/>
              <p:cNvPicPr/>
              <p:nvPr/>
            </p:nvPicPr>
            <p:blipFill>
              <a:blip r:embed="rId36"/>
              <a:stretch/>
            </p:blipFill>
            <p:spPr>
              <a:xfrm>
                <a:off x="9501840" y="3948120"/>
                <a:ext cx="3456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9572760" y="40215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Oval 99"/>
            <p:cNvGrpSpPr/>
            <p:nvPr/>
          </p:nvGrpSpPr>
          <p:grpSpPr>
            <a:xfrm>
              <a:off x="9835560" y="3948120"/>
              <a:ext cx="345600" cy="346320"/>
              <a:chOff x="9835560" y="3948120"/>
              <a:chExt cx="345600" cy="346320"/>
            </a:xfrm>
          </p:grpSpPr>
          <p:pic>
            <p:nvPicPr>
              <p:cNvPr id="538" name="Oval 99" descr=""/>
              <p:cNvPicPr/>
              <p:nvPr/>
            </p:nvPicPr>
            <p:blipFill>
              <a:blip r:embed="rId37"/>
              <a:stretch/>
            </p:blipFill>
            <p:spPr>
              <a:xfrm>
                <a:off x="9835560" y="3948120"/>
                <a:ext cx="3456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9908280" y="40215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Oval 100"/>
            <p:cNvGrpSpPr/>
            <p:nvPr/>
          </p:nvGrpSpPr>
          <p:grpSpPr>
            <a:xfrm>
              <a:off x="9501840" y="2621160"/>
              <a:ext cx="345600" cy="340560"/>
              <a:chOff x="9501840" y="2621160"/>
              <a:chExt cx="345600" cy="340560"/>
            </a:xfrm>
          </p:grpSpPr>
          <p:pic>
            <p:nvPicPr>
              <p:cNvPr id="541" name="Oval 100" descr=""/>
              <p:cNvPicPr/>
              <p:nvPr/>
            </p:nvPicPr>
            <p:blipFill>
              <a:blip r:embed="rId38"/>
              <a:stretch/>
            </p:blipFill>
            <p:spPr>
              <a:xfrm>
                <a:off x="9501840" y="262116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9572760" y="26931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Oval 101"/>
            <p:cNvGrpSpPr/>
            <p:nvPr/>
          </p:nvGrpSpPr>
          <p:grpSpPr>
            <a:xfrm>
              <a:off x="9835560" y="2621160"/>
              <a:ext cx="345600" cy="340560"/>
              <a:chOff x="9835560" y="2621160"/>
              <a:chExt cx="345600" cy="340560"/>
            </a:xfrm>
          </p:grpSpPr>
          <p:pic>
            <p:nvPicPr>
              <p:cNvPr id="544" name="Oval 101" descr=""/>
              <p:cNvPicPr/>
              <p:nvPr/>
            </p:nvPicPr>
            <p:blipFill>
              <a:blip r:embed="rId39"/>
              <a:stretch/>
            </p:blipFill>
            <p:spPr>
              <a:xfrm>
                <a:off x="9835560" y="262116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>
                <a:off x="9908280" y="26931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Oval 102"/>
            <p:cNvGrpSpPr/>
            <p:nvPr/>
          </p:nvGrpSpPr>
          <p:grpSpPr>
            <a:xfrm>
              <a:off x="9501840" y="1728720"/>
              <a:ext cx="345600" cy="340560"/>
              <a:chOff x="9501840" y="1728720"/>
              <a:chExt cx="345600" cy="340560"/>
            </a:xfrm>
          </p:grpSpPr>
          <p:pic>
            <p:nvPicPr>
              <p:cNvPr id="547" name="Oval 102" descr=""/>
              <p:cNvPicPr/>
              <p:nvPr/>
            </p:nvPicPr>
            <p:blipFill>
              <a:blip r:embed="rId40"/>
              <a:stretch/>
            </p:blipFill>
            <p:spPr>
              <a:xfrm>
                <a:off x="9501840" y="172872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>
                <a:off x="9572760" y="17985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Oval 103"/>
            <p:cNvGrpSpPr/>
            <p:nvPr/>
          </p:nvGrpSpPr>
          <p:grpSpPr>
            <a:xfrm>
              <a:off x="9835560" y="1728720"/>
              <a:ext cx="345600" cy="340560"/>
              <a:chOff x="9835560" y="1728720"/>
              <a:chExt cx="345600" cy="340560"/>
            </a:xfrm>
          </p:grpSpPr>
          <p:pic>
            <p:nvPicPr>
              <p:cNvPr id="550" name="Oval 103" descr=""/>
              <p:cNvPicPr/>
              <p:nvPr/>
            </p:nvPicPr>
            <p:blipFill>
              <a:blip r:embed="rId41"/>
              <a:stretch/>
            </p:blipFill>
            <p:spPr>
              <a:xfrm>
                <a:off x="9835560" y="172872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9908280" y="17985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Oval 104"/>
            <p:cNvGrpSpPr/>
            <p:nvPr/>
          </p:nvGrpSpPr>
          <p:grpSpPr>
            <a:xfrm>
              <a:off x="9501840" y="4394520"/>
              <a:ext cx="345600" cy="340560"/>
              <a:chOff x="9501840" y="4394520"/>
              <a:chExt cx="345600" cy="340560"/>
            </a:xfrm>
          </p:grpSpPr>
          <p:pic>
            <p:nvPicPr>
              <p:cNvPr id="553" name="Oval 104" descr=""/>
              <p:cNvPicPr/>
              <p:nvPr/>
            </p:nvPicPr>
            <p:blipFill>
              <a:blip r:embed="rId42"/>
              <a:stretch/>
            </p:blipFill>
            <p:spPr>
              <a:xfrm>
                <a:off x="9501840" y="439452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9572760" y="446472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Oval 105"/>
            <p:cNvGrpSpPr/>
            <p:nvPr/>
          </p:nvGrpSpPr>
          <p:grpSpPr>
            <a:xfrm>
              <a:off x="9835560" y="4394520"/>
              <a:ext cx="345600" cy="340560"/>
              <a:chOff x="9835560" y="4394520"/>
              <a:chExt cx="345600" cy="340560"/>
            </a:xfrm>
          </p:grpSpPr>
          <p:pic>
            <p:nvPicPr>
              <p:cNvPr id="556" name="Oval 105" descr=""/>
              <p:cNvPicPr/>
              <p:nvPr/>
            </p:nvPicPr>
            <p:blipFill>
              <a:blip r:embed="rId43"/>
              <a:stretch/>
            </p:blipFill>
            <p:spPr>
              <a:xfrm>
                <a:off x="9835560" y="439452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9908280" y="446472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Oval 106"/>
            <p:cNvGrpSpPr/>
            <p:nvPr/>
          </p:nvGrpSpPr>
          <p:grpSpPr>
            <a:xfrm>
              <a:off x="10163520" y="2163240"/>
              <a:ext cx="345600" cy="346320"/>
              <a:chOff x="10163520" y="2163240"/>
              <a:chExt cx="345600" cy="346320"/>
            </a:xfrm>
          </p:grpSpPr>
          <p:pic>
            <p:nvPicPr>
              <p:cNvPr id="559" name="Oval 106" descr=""/>
              <p:cNvPicPr/>
              <p:nvPr/>
            </p:nvPicPr>
            <p:blipFill>
              <a:blip r:embed="rId44"/>
              <a:stretch/>
            </p:blipFill>
            <p:spPr>
              <a:xfrm>
                <a:off x="10163520" y="2163240"/>
                <a:ext cx="34560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10237320" y="223776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Oval 107"/>
            <p:cNvGrpSpPr/>
            <p:nvPr/>
          </p:nvGrpSpPr>
          <p:grpSpPr>
            <a:xfrm>
              <a:off x="10497240" y="2163240"/>
              <a:ext cx="351720" cy="346320"/>
              <a:chOff x="10497240" y="2163240"/>
              <a:chExt cx="351720" cy="346320"/>
            </a:xfrm>
          </p:grpSpPr>
          <p:pic>
            <p:nvPicPr>
              <p:cNvPr id="562" name="Oval 107" descr=""/>
              <p:cNvPicPr/>
              <p:nvPr/>
            </p:nvPicPr>
            <p:blipFill>
              <a:blip r:embed="rId45"/>
              <a:stretch/>
            </p:blipFill>
            <p:spPr>
              <a:xfrm>
                <a:off x="10497240" y="2163240"/>
                <a:ext cx="351720" cy="34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>
                <a:off x="10573200" y="223776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Oval 108"/>
            <p:cNvGrpSpPr/>
            <p:nvPr/>
          </p:nvGrpSpPr>
          <p:grpSpPr>
            <a:xfrm>
              <a:off x="10163520" y="4394520"/>
              <a:ext cx="345600" cy="340560"/>
              <a:chOff x="10163520" y="4394520"/>
              <a:chExt cx="345600" cy="340560"/>
            </a:xfrm>
          </p:grpSpPr>
          <p:pic>
            <p:nvPicPr>
              <p:cNvPr id="565" name="Oval 108" descr=""/>
              <p:cNvPicPr/>
              <p:nvPr/>
            </p:nvPicPr>
            <p:blipFill>
              <a:blip r:embed="rId46"/>
              <a:stretch/>
            </p:blipFill>
            <p:spPr>
              <a:xfrm>
                <a:off x="10163520" y="4394520"/>
                <a:ext cx="34560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10237320" y="4464720"/>
                <a:ext cx="1530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Oval 109"/>
            <p:cNvGrpSpPr/>
            <p:nvPr/>
          </p:nvGrpSpPr>
          <p:grpSpPr>
            <a:xfrm>
              <a:off x="10497240" y="4394520"/>
              <a:ext cx="351720" cy="340560"/>
              <a:chOff x="10497240" y="4394520"/>
              <a:chExt cx="351720" cy="340560"/>
            </a:xfrm>
          </p:grpSpPr>
          <p:pic>
            <p:nvPicPr>
              <p:cNvPr id="568" name="Oval 109" descr=""/>
              <p:cNvPicPr/>
              <p:nvPr/>
            </p:nvPicPr>
            <p:blipFill>
              <a:blip r:embed="rId47"/>
              <a:stretch/>
            </p:blipFill>
            <p:spPr>
              <a:xfrm>
                <a:off x="10497240" y="4394520"/>
                <a:ext cx="351720" cy="3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10573200" y="4464720"/>
                <a:ext cx="153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Straight Connector 122"/>
            <p:cNvSpPr/>
            <p:nvPr/>
          </p:nvSpPr>
          <p:spPr>
            <a:xfrm flipH="1">
              <a:off x="6273000" y="4204800"/>
              <a:ext cx="1440" cy="669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Straight Connector 123"/>
            <p:cNvSpPr/>
            <p:nvPr/>
          </p:nvSpPr>
          <p:spPr>
            <a:xfrm flipH="1">
              <a:off x="6608880" y="4204800"/>
              <a:ext cx="1440" cy="669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Straight Connector 126"/>
            <p:cNvSpPr/>
            <p:nvPr/>
          </p:nvSpPr>
          <p:spPr>
            <a:xfrm flipH="1">
              <a:off x="6944400" y="4204800"/>
              <a:ext cx="1440" cy="669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traight Connector 129"/>
            <p:cNvSpPr/>
            <p:nvPr/>
          </p:nvSpPr>
          <p:spPr>
            <a:xfrm flipH="1">
              <a:off x="7280280" y="4204800"/>
              <a:ext cx="1440" cy="669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148"/>
            <p:cNvSpPr/>
            <p:nvPr/>
          </p:nvSpPr>
          <p:spPr>
            <a:xfrm flipH="1">
              <a:off x="8959320" y="2421000"/>
              <a:ext cx="1440" cy="245412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Straight Connector 149"/>
            <p:cNvSpPr/>
            <p:nvPr/>
          </p:nvSpPr>
          <p:spPr>
            <a:xfrm flipH="1">
              <a:off x="9294840" y="2421000"/>
              <a:ext cx="1440" cy="245412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6360" y="30240"/>
            <a:ext cx="10369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ourney times slash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76360" y="1224000"/>
          <a:ext cx="10369440" cy="4248000"/>
        </p:xfrm>
        <a:graphic>
          <a:graphicData uri="http://schemas.openxmlformats.org/drawingml/2006/table">
            <a:tbl>
              <a:tblPr/>
              <a:tblGrid>
                <a:gridCol w="3255840"/>
                <a:gridCol w="3557520"/>
                <a:gridCol w="3556080"/>
              </a:tblGrid>
              <a:tr h="717480">
                <a:tc>
                  <a:txBody>
                    <a:bodyPr lIns="115200" rIns="115200" tIns="43200" bIns="432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don Journ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15200" rIns="115200" tIns="43200" bIns="432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t Fastest Journey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15200" rIns="115200" tIns="43200" bIns="432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Lines Journey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87520">
                <a:tc>
                  <a:txBody>
                    <a:bodyPr lIns="115200" rIns="115200" tIns="43200" bIns="432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don to Manche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hr 7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hr 6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115200" rIns="115200" tIns="43200" bIns="432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don to Birm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hr 22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115200" rIns="115200" tIns="43200" bIns="432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don to Liverp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hr 8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hr 23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115200" rIns="115200" tIns="43200" bIns="432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don to Pre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hr 13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115200" rIns="115200" tIns="43200" bIns="432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don to Glasgow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hr 31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hr 16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115200" rIns="115200" tIns="43200" bIns="432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don to Edinbur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hr 13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0" rIns="54000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hr 9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5200" marR="54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business c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576360" y="1203480"/>
          <a:ext cx="10369440" cy="3749400"/>
        </p:xfrm>
        <a:graphic>
          <a:graphicData uri="http://schemas.openxmlformats.org/drawingml/2006/table">
            <a:tbl>
              <a:tblPr/>
              <a:tblGrid>
                <a:gridCol w="7899480"/>
                <a:gridCol w="2469960"/>
              </a:tblGrid>
              <a:tr h="815760"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103680" rIns="10368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</a:t>
                      </a:r>
                      <a:br>
                        <a:rPr sz="24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£m 2009 pric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88880"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Cost (£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,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 Construction Cost (£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4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ptimism Bias @ 66% (£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5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including optimism bias (£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£m per route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3680" rIns="103680" tIns="43200" bIns="432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3680" marR="10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Rectangle 167"/>
          <p:cNvSpPr/>
          <p:nvPr/>
        </p:nvSpPr>
        <p:spPr>
          <a:xfrm>
            <a:off x="576360" y="5084640"/>
            <a:ext cx="83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efit: cost ratio estimated at 1.8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ost comparis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1"/>
          <p:cNvGrpSpPr/>
          <p:nvPr/>
        </p:nvGrpSpPr>
        <p:grpSpPr>
          <a:xfrm>
            <a:off x="397080" y="1224000"/>
            <a:ext cx="10692360" cy="4236480"/>
            <a:chOff x="397080" y="1224000"/>
            <a:chExt cx="10692360" cy="4236480"/>
          </a:xfrm>
        </p:grpSpPr>
        <p:sp>
          <p:nvSpPr>
            <p:cNvPr id="583" name="Rectangle 60"/>
            <p:cNvSpPr/>
            <p:nvPr/>
          </p:nvSpPr>
          <p:spPr>
            <a:xfrm>
              <a:off x="521640" y="4694040"/>
              <a:ext cx="317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nel Tunnel Rail Link Section 1&amp;2 ave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1"/>
            <p:cNvSpPr/>
            <p:nvPr/>
          </p:nvSpPr>
          <p:spPr>
            <a:xfrm>
              <a:off x="1305360" y="4430160"/>
              <a:ext cx="239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nel Tunnel Rail Link Sec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62"/>
            <p:cNvSpPr/>
            <p:nvPr/>
          </p:nvSpPr>
          <p:spPr>
            <a:xfrm>
              <a:off x="397080" y="4166640"/>
              <a:ext cx="32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Line Option 1.4.1 - Including Optimism B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63"/>
            <p:cNvSpPr/>
            <p:nvPr/>
          </p:nvSpPr>
          <p:spPr>
            <a:xfrm>
              <a:off x="2453400" y="3902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SL Zuid, Holl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64"/>
            <p:cNvSpPr/>
            <p:nvPr/>
          </p:nvSpPr>
          <p:spPr>
            <a:xfrm>
              <a:off x="2282040" y="3639240"/>
              <a:ext cx="142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GV Taiwan, Taiw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65"/>
            <p:cNvSpPr/>
            <p:nvPr/>
          </p:nvSpPr>
          <p:spPr>
            <a:xfrm>
              <a:off x="2152440" y="3375360"/>
              <a:ext cx="153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nkansen - Hokurik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66"/>
            <p:cNvSpPr/>
            <p:nvPr/>
          </p:nvSpPr>
          <p:spPr>
            <a:xfrm>
              <a:off x="973080" y="3111840"/>
              <a:ext cx="27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ples-Rome and Florence - Turin, Ita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67"/>
            <p:cNvSpPr/>
            <p:nvPr/>
          </p:nvSpPr>
          <p:spPr>
            <a:xfrm>
              <a:off x="2430720" y="2848320"/>
              <a:ext cx="125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GV Korea, K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68"/>
            <p:cNvSpPr/>
            <p:nvPr/>
          </p:nvSpPr>
          <p:spPr>
            <a:xfrm>
              <a:off x="1801080" y="2584440"/>
              <a:ext cx="189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nkansen - Joetsu, J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69"/>
            <p:cNvSpPr/>
            <p:nvPr/>
          </p:nvSpPr>
          <p:spPr>
            <a:xfrm>
              <a:off x="1828080" y="2320920"/>
              <a:ext cx="186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nkansen - Thoku, J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70"/>
            <p:cNvSpPr/>
            <p:nvPr/>
          </p:nvSpPr>
          <p:spPr>
            <a:xfrm>
              <a:off x="1359000" y="2057040"/>
              <a:ext cx="232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CE Frankfurt - Cologne, Germ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71"/>
            <p:cNvSpPr/>
            <p:nvPr/>
          </p:nvSpPr>
          <p:spPr>
            <a:xfrm>
              <a:off x="1920240" y="1793520"/>
              <a:ext cx="176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GV Mediteranee, Fr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72"/>
            <p:cNvSpPr/>
            <p:nvPr/>
          </p:nvSpPr>
          <p:spPr>
            <a:xfrm>
              <a:off x="2094480" y="1530000"/>
              <a:ext cx="1599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GV Atlantique, Fr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73"/>
            <p:cNvSpPr/>
            <p:nvPr/>
          </p:nvSpPr>
          <p:spPr>
            <a:xfrm>
              <a:off x="1841760" y="1266120"/>
              <a:ext cx="18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 Madrid - Lerida, Sp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74"/>
            <p:cNvSpPr/>
            <p:nvPr/>
          </p:nvSpPr>
          <p:spPr>
            <a:xfrm>
              <a:off x="7266600" y="521676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£ per 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4"/>
            <p:cNvSpPr/>
            <p:nvPr/>
          </p:nvSpPr>
          <p:spPr>
            <a:xfrm>
              <a:off x="3865680" y="4681440"/>
              <a:ext cx="6033240" cy="17280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5"/>
            <p:cNvSpPr/>
            <p:nvPr/>
          </p:nvSpPr>
          <p:spPr>
            <a:xfrm>
              <a:off x="3865680" y="4413240"/>
              <a:ext cx="3077280" cy="18468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6"/>
            <p:cNvSpPr/>
            <p:nvPr/>
          </p:nvSpPr>
          <p:spPr>
            <a:xfrm>
              <a:off x="3865680" y="4157640"/>
              <a:ext cx="5202720" cy="172800"/>
            </a:xfrm>
            <a:prstGeom prst="rect">
              <a:avLst/>
            </a:prstGeom>
            <a:solidFill>
              <a:srgbClr val="91abc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8"/>
            <p:cNvSpPr/>
            <p:nvPr/>
          </p:nvSpPr>
          <p:spPr>
            <a:xfrm>
              <a:off x="3865680" y="3887280"/>
              <a:ext cx="4139280" cy="18468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9"/>
            <p:cNvSpPr/>
            <p:nvPr/>
          </p:nvSpPr>
          <p:spPr>
            <a:xfrm>
              <a:off x="3865680" y="3631320"/>
              <a:ext cx="4017240" cy="17280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0"/>
            <p:cNvSpPr/>
            <p:nvPr/>
          </p:nvSpPr>
          <p:spPr>
            <a:xfrm>
              <a:off x="3865680" y="3360960"/>
              <a:ext cx="3907800" cy="18792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1"/>
            <p:cNvSpPr/>
            <p:nvPr/>
          </p:nvSpPr>
          <p:spPr>
            <a:xfrm>
              <a:off x="3865680" y="3105360"/>
              <a:ext cx="3785760" cy="17280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2"/>
            <p:cNvSpPr/>
            <p:nvPr/>
          </p:nvSpPr>
          <p:spPr>
            <a:xfrm>
              <a:off x="3865680" y="2846880"/>
              <a:ext cx="3664080" cy="17280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3"/>
            <p:cNvSpPr/>
            <p:nvPr/>
          </p:nvSpPr>
          <p:spPr>
            <a:xfrm>
              <a:off x="3865680" y="2578680"/>
              <a:ext cx="3554280" cy="18468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4"/>
            <p:cNvSpPr/>
            <p:nvPr/>
          </p:nvSpPr>
          <p:spPr>
            <a:xfrm>
              <a:off x="3865680" y="2323440"/>
              <a:ext cx="3430800" cy="16992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5"/>
            <p:cNvSpPr/>
            <p:nvPr/>
          </p:nvSpPr>
          <p:spPr>
            <a:xfrm>
              <a:off x="3865680" y="2052720"/>
              <a:ext cx="2724120" cy="18468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6"/>
            <p:cNvSpPr/>
            <p:nvPr/>
          </p:nvSpPr>
          <p:spPr>
            <a:xfrm>
              <a:off x="3865680" y="1796760"/>
              <a:ext cx="2015640" cy="17280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7"/>
            <p:cNvSpPr/>
            <p:nvPr/>
          </p:nvSpPr>
          <p:spPr>
            <a:xfrm>
              <a:off x="3865680" y="1526400"/>
              <a:ext cx="830160" cy="18792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8"/>
            <p:cNvSpPr/>
            <p:nvPr/>
          </p:nvSpPr>
          <p:spPr>
            <a:xfrm>
              <a:off x="3865680" y="1270800"/>
              <a:ext cx="830160" cy="172800"/>
            </a:xfrm>
            <a:prstGeom prst="rect">
              <a:avLst/>
            </a:prstGeom>
            <a:solidFill>
              <a:srgbClr val="339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9"/>
            <p:cNvSpPr/>
            <p:nvPr/>
          </p:nvSpPr>
          <p:spPr>
            <a:xfrm>
              <a:off x="3865680" y="4892760"/>
              <a:ext cx="7094880" cy="144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3"/>
            <p:cNvSpPr/>
            <p:nvPr/>
          </p:nvSpPr>
          <p:spPr>
            <a:xfrm>
              <a:off x="3815280" y="4928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4"/>
            <p:cNvSpPr/>
            <p:nvPr/>
          </p:nvSpPr>
          <p:spPr>
            <a:xfrm>
              <a:off x="4951440" y="492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5"/>
            <p:cNvSpPr/>
            <p:nvPr/>
          </p:nvSpPr>
          <p:spPr>
            <a:xfrm>
              <a:off x="6136920" y="492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6"/>
            <p:cNvSpPr/>
            <p:nvPr/>
          </p:nvSpPr>
          <p:spPr>
            <a:xfrm>
              <a:off x="7320600" y="492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7"/>
            <p:cNvSpPr/>
            <p:nvPr/>
          </p:nvSpPr>
          <p:spPr>
            <a:xfrm>
              <a:off x="8493840" y="492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58"/>
            <p:cNvSpPr/>
            <p:nvPr/>
          </p:nvSpPr>
          <p:spPr>
            <a:xfrm>
              <a:off x="9677520" y="492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59"/>
            <p:cNvSpPr/>
            <p:nvPr/>
          </p:nvSpPr>
          <p:spPr>
            <a:xfrm>
              <a:off x="10863000" y="492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Group 78" descr=""/>
            <p:cNvPicPr/>
            <p:nvPr/>
          </p:nvPicPr>
          <p:blipFill>
            <a:blip r:embed="rId1"/>
            <a:stretch/>
          </p:blipFill>
          <p:spPr>
            <a:xfrm>
              <a:off x="3864960" y="4151520"/>
              <a:ext cx="3236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Line 37"/>
            <p:cNvSpPr/>
            <p:nvPr/>
          </p:nvSpPr>
          <p:spPr>
            <a:xfrm>
              <a:off x="3865680" y="1224000"/>
              <a:ext cx="1440" cy="3668760"/>
            </a:xfrm>
            <a:prstGeom prst="line">
              <a:avLst/>
            </a:prstGeom>
            <a:ln cap="rnd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enefits for existing West Coast destin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complete recast of the timetable enabling more services between major towns on the route and more direct, faster services to London such as Milton Keynes, Nuneaton and Northamp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capacity created for freight tr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markets developed not presently served with direct services to 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rther 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has been estimated that wider economic benefits could be worth between £3bn and £6bn to the UK economy with the introduction of the new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duction in travel time between city centres for users of the new line is the equivalent of 50m hours per annum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203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West Coast main line recast will in turn lead to journey time benefits equivalent to 6m hours per annum by 20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introduction of a new line would provide an additional 9,100 seats an hour into Lo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environmental c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estimated reduction in CO2 emissions of almost 300,000 tonnes per annum could be achieved by 2030, through reduced air, car and lorry trav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total reduction in car kilometre is estimated at 673m vehicle km and 71m freight vehicle km by 203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new line is estimated to lead to a decrease in air journeys of 3.6m per annum by 203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udy contribu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76360" y="1203120"/>
            <a:ext cx="36129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s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sociation of Train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perating Compa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 Reg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 Schen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artment for Tran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st Midlands Tr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uros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eldworks and K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rst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7547040" y="1203480"/>
            <a:ext cx="36129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port  for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port Scot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IC, International Union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 Rai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rgin 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lsh Assembly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Content Placeholder 9"/>
          <p:cNvSpPr/>
          <p:nvPr/>
        </p:nvSpPr>
        <p:spPr>
          <a:xfrm>
            <a:off x="3903840" y="1203480"/>
            <a:ext cx="36129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eengauge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ta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eds University, Institute for Transpor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chester Air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il Industry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ad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bert Watson A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er Davies Gleave (study specialist consul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mand for rail continues to g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en with planned interventions some lines will fill up s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new line between London and Scotland will address the capacity issue and delive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ep change in journey times between major 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enue growth for ou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der economic and environmental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twork Rail will continue to develop business case for further new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0" y="0"/>
            <a:ext cx="11522160" cy="648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T Placeholder: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ow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e have a successful, thriving rail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3bn passenger journeys a year – the highest since 19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st punctual railway ever recor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re trains than ever b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afest form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gh levels of passenger satisf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wth on the existing network is forecast to nearly double over the next 3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£12bn worth of Network Rail capacity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chemes under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5" descr="D:\_Network Rail\PowerPoint\GFX\Stills\Iain Coucher\NR0021-005.tif"/>
          <p:cNvPicPr/>
          <p:nvPr/>
        </p:nvPicPr>
        <p:blipFill>
          <a:blip r:embed="rId1"/>
          <a:srcRect l="0" t="0" r="37276" b="0"/>
          <a:stretch/>
        </p:blipFill>
        <p:spPr>
          <a:xfrm>
            <a:off x="3924360" y="1752480"/>
            <a:ext cx="3673440" cy="24656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5" name="Picture 15" descr="D:\_Network Rail\PowerPoint\GFX\Stills\Iain Coucher\NR0021-005.tif"/>
          <p:cNvPicPr/>
          <p:nvPr/>
        </p:nvPicPr>
        <p:blipFill>
          <a:blip r:embed="rId2"/>
          <a:srcRect l="5068" t="0" r="5940" b="0"/>
          <a:stretch/>
        </p:blipFill>
        <p:spPr>
          <a:xfrm>
            <a:off x="7723080" y="1752480"/>
            <a:ext cx="3672000" cy="24656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6" name="Picture 15" descr="D:\_Network Rail\PowerPoint\GFX\Stills\Iain Coucher\NR0021-005.tif"/>
          <p:cNvPicPr/>
          <p:nvPr/>
        </p:nvPicPr>
        <p:blipFill>
          <a:blip r:embed="rId3"/>
          <a:srcRect l="0" t="0" r="0" b="4072"/>
          <a:stretch/>
        </p:blipFill>
        <p:spPr>
          <a:xfrm>
            <a:off x="127080" y="1752480"/>
            <a:ext cx="3671640" cy="24656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77" name="Rectangle 16"/>
          <p:cNvGrpSpPr/>
          <p:nvPr/>
        </p:nvGrpSpPr>
        <p:grpSpPr>
          <a:xfrm>
            <a:off x="3882960" y="4316400"/>
            <a:ext cx="3803760" cy="725400"/>
            <a:chOff x="3882960" y="4316400"/>
            <a:chExt cx="3803760" cy="725400"/>
          </a:xfrm>
        </p:grpSpPr>
        <p:pic>
          <p:nvPicPr>
            <p:cNvPr id="278" name="Rectangle 16" descr=""/>
            <p:cNvPicPr/>
            <p:nvPr/>
          </p:nvPicPr>
          <p:blipFill>
            <a:blip r:embed="rId4"/>
            <a:stretch/>
          </p:blipFill>
          <p:spPr>
            <a:xfrm>
              <a:off x="3882960" y="4316400"/>
              <a:ext cx="38037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924360" y="4361040"/>
              <a:ext cx="36734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irmingham New Stre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Rectangle 17"/>
          <p:cNvGrpSpPr/>
          <p:nvPr/>
        </p:nvGrpSpPr>
        <p:grpSpPr>
          <a:xfrm>
            <a:off x="7680240" y="4316400"/>
            <a:ext cx="3805200" cy="725400"/>
            <a:chOff x="7680240" y="4316400"/>
            <a:chExt cx="3805200" cy="725400"/>
          </a:xfrm>
        </p:grpSpPr>
        <p:pic>
          <p:nvPicPr>
            <p:cNvPr id="281" name="Rectangle 17" descr=""/>
            <p:cNvPicPr/>
            <p:nvPr/>
          </p:nvPicPr>
          <p:blipFill>
            <a:blip r:embed="rId5"/>
            <a:stretch/>
          </p:blipFill>
          <p:spPr>
            <a:xfrm>
              <a:off x="7680240" y="4316400"/>
              <a:ext cx="3805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723080" y="4361040"/>
              <a:ext cx="36720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King’s Cr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ectangle 18"/>
          <p:cNvGrpSpPr/>
          <p:nvPr/>
        </p:nvGrpSpPr>
        <p:grpSpPr>
          <a:xfrm>
            <a:off x="85680" y="4316400"/>
            <a:ext cx="3803760" cy="725400"/>
            <a:chOff x="85680" y="4316400"/>
            <a:chExt cx="3803760" cy="725400"/>
          </a:xfrm>
        </p:grpSpPr>
        <p:pic>
          <p:nvPicPr>
            <p:cNvPr id="284" name="Rectangle 18" descr=""/>
            <p:cNvPicPr/>
            <p:nvPr/>
          </p:nvPicPr>
          <p:blipFill>
            <a:blip r:embed="rId6"/>
            <a:stretch/>
          </p:blipFill>
          <p:spPr>
            <a:xfrm>
              <a:off x="85680" y="4316400"/>
              <a:ext cx="38037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127080" y="4361040"/>
              <a:ext cx="3671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Thamesl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RushHourPA_468x297[1]"/>
          <p:cNvPicPr/>
          <p:nvPr/>
        </p:nvPicPr>
        <p:blipFill>
          <a:blip r:embed="rId1"/>
          <a:srcRect l="0" t="4646" r="0" b="11654"/>
          <a:stretch/>
        </p:blipFill>
        <p:spPr>
          <a:xfrm>
            <a:off x="5905440" y="1311120"/>
            <a:ext cx="5040360" cy="31496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87" name="Rectangle 7"/>
          <p:cNvGrpSpPr/>
          <p:nvPr/>
        </p:nvGrpSpPr>
        <p:grpSpPr>
          <a:xfrm>
            <a:off x="5864400" y="4572000"/>
            <a:ext cx="5175000" cy="914400"/>
            <a:chOff x="5864400" y="4572000"/>
            <a:chExt cx="5175000" cy="914400"/>
          </a:xfrm>
        </p:grpSpPr>
        <p:pic>
          <p:nvPicPr>
            <p:cNvPr id="288" name="Rectangle 7" descr=""/>
            <p:cNvPicPr/>
            <p:nvPr/>
          </p:nvPicPr>
          <p:blipFill>
            <a:blip r:embed="rId2"/>
            <a:stretch/>
          </p:blipFill>
          <p:spPr>
            <a:xfrm>
              <a:off x="5864400" y="4572000"/>
              <a:ext cx="5175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05440" y="4613400"/>
              <a:ext cx="50403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ube upgr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ectangle 8"/>
          <p:cNvGrpSpPr/>
          <p:nvPr/>
        </p:nvGrpSpPr>
        <p:grpSpPr>
          <a:xfrm>
            <a:off x="536400" y="4572000"/>
            <a:ext cx="5169240" cy="914400"/>
            <a:chOff x="536400" y="4572000"/>
            <a:chExt cx="5169240" cy="914400"/>
          </a:xfrm>
        </p:grpSpPr>
        <p:pic>
          <p:nvPicPr>
            <p:cNvPr id="291" name="Rectangle 8" descr=""/>
            <p:cNvPicPr/>
            <p:nvPr/>
          </p:nvPicPr>
          <p:blipFill>
            <a:blip r:embed="rId3"/>
            <a:stretch/>
          </p:blipFill>
          <p:spPr>
            <a:xfrm>
              <a:off x="536400" y="4572000"/>
              <a:ext cx="5169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76360" y="4613400"/>
              <a:ext cx="50403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rossr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ther sche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contrails[1]"/>
          <p:cNvPicPr/>
          <p:nvPr/>
        </p:nvPicPr>
        <p:blipFill>
          <a:blip r:embed="rId4"/>
          <a:srcRect l="11763" t="0" r="0" b="0"/>
          <a:stretch/>
        </p:blipFill>
        <p:spPr>
          <a:xfrm>
            <a:off x="576360" y="1311120"/>
            <a:ext cx="5040360" cy="31496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2025 some lines will be full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summer 2008 Network Rail launched its new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s study to look into how to relieve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gestion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don to the North West and Scot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don to the Mid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don to the North East and Scot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don to Bristol and South W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need to plan for new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5" descr="Map2"/>
          <p:cNvPicPr/>
          <p:nvPr/>
        </p:nvPicPr>
        <p:blipFill>
          <a:blip r:embed="rId1">
            <a:grayscl/>
            <a:lum bright="-26000"/>
          </a:blip>
          <a:srcRect l="0" t="0" r="7618" b="0"/>
          <a:stretch/>
        </p:blipFill>
        <p:spPr>
          <a:xfrm>
            <a:off x="6880320" y="28440"/>
            <a:ext cx="4641840" cy="6423120"/>
          </a:xfrm>
          <a:prstGeom prst="rect">
            <a:avLst/>
          </a:prstGeom>
          <a:ln w="0">
            <a:noFill/>
          </a:ln>
        </p:spPr>
      </p:pic>
      <p:sp>
        <p:nvSpPr>
          <p:cNvPr id="298" name="Freeform 8"/>
          <p:cNvSpPr/>
          <p:nvPr/>
        </p:nvSpPr>
        <p:spPr>
          <a:xfrm>
            <a:off x="9242280" y="2335320"/>
            <a:ext cx="1252800" cy="2668320"/>
          </a:xfrm>
          <a:prstGeom prst="pie">
            <a:avLst/>
          </a:prstGeom>
          <a:noFill/>
          <a:ln cap="rnd" w="1015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10077480" y="3990960"/>
            <a:ext cx="363600" cy="1012680"/>
          </a:xfrm>
          <a:prstGeom prst="pie">
            <a:avLst/>
          </a:prstGeom>
          <a:noFill/>
          <a:ln cap="rnd" w="1015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8879040" y="2417760"/>
            <a:ext cx="1562040" cy="2608200"/>
          </a:xfrm>
          <a:prstGeom prst="pie">
            <a:avLst/>
          </a:prstGeom>
          <a:noFill/>
          <a:ln cap="rnd" w="1015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9051840" y="4751280"/>
            <a:ext cx="1373400" cy="238320"/>
          </a:xfrm>
          <a:prstGeom prst="pie">
            <a:avLst/>
          </a:prstGeom>
          <a:noFill/>
          <a:ln cap="rnd" w="1015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4"/>
          <p:cNvSpPr/>
          <p:nvPr/>
        </p:nvSpPr>
        <p:spPr>
          <a:xfrm>
            <a:off x="9298080" y="4836960"/>
            <a:ext cx="341280" cy="495360"/>
          </a:xfrm>
          <a:prstGeom prst="pie">
            <a:avLst/>
          </a:prstGeom>
          <a:noFill/>
          <a:ln cap="rnd" w="1015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5"/>
          <p:cNvSpPr/>
          <p:nvPr/>
        </p:nvSpPr>
        <p:spPr>
          <a:xfrm>
            <a:off x="9429840" y="4292640"/>
            <a:ext cx="992160" cy="709560"/>
          </a:xfrm>
          <a:prstGeom prst="pie">
            <a:avLst/>
          </a:prstGeom>
          <a:noFill/>
          <a:ln cap="rnd" w="1015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Oval 7"/>
          <p:cNvGrpSpPr/>
          <p:nvPr/>
        </p:nvGrpSpPr>
        <p:grpSpPr>
          <a:xfrm>
            <a:off x="10290240" y="4840200"/>
            <a:ext cx="390600" cy="390600"/>
            <a:chOff x="10290240" y="4840200"/>
            <a:chExt cx="390600" cy="390600"/>
          </a:xfrm>
        </p:grpSpPr>
        <p:pic>
          <p:nvPicPr>
            <p:cNvPr id="305" name="Oval 7" descr=""/>
            <p:cNvPicPr/>
            <p:nvPr/>
          </p:nvPicPr>
          <p:blipFill>
            <a:blip r:embed="rId2"/>
            <a:stretch/>
          </p:blipFill>
          <p:spPr>
            <a:xfrm>
              <a:off x="10290240" y="4840200"/>
              <a:ext cx="3906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0369440" y="4919760"/>
              <a:ext cx="1796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role of Network R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 have a mandate to plan to meet future demand – in short, medium and long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get short term planning right, we need a good understanding of the railway in 30-4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looking at planning new capacity to meet rising dem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6360" y="95040"/>
            <a:ext cx="103694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pacity crun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76360" y="1203120"/>
            <a:ext cx="1036944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upgrade to the West Coast main line that has added over 30% more capacity, however by 2020 this route fills up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ndon to West Midlands and North West is the most critical corridor with the biggest potenti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Rugby"/>
          <p:cNvPicPr/>
          <p:nvPr/>
        </p:nvPicPr>
        <p:blipFill>
          <a:blip r:embed="rId1"/>
          <a:srcRect l="0" t="12885" r="0" b="12842"/>
          <a:stretch/>
        </p:blipFill>
        <p:spPr>
          <a:xfrm>
            <a:off x="576360" y="3311640"/>
            <a:ext cx="10369440" cy="21603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2:23:13Z</dcterms:created>
  <dc:creator>ndahya</dc:creator>
  <dc:description/>
  <dc:language>en-US</dc:language>
  <cp:lastModifiedBy>dbonfield</cp:lastModifiedBy>
  <dcterms:modified xsi:type="dcterms:W3CDTF">2009-08-26T14:11:11Z</dcterms:modified>
  <cp:revision>550</cp:revision>
  <dc:subject/>
  <dc:title>Slide 1</dc:title>
</cp:coreProperties>
</file>