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391-3FCA-4342-8C3A-08B0FD76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D08-F9B4-44C0-A02C-45789D99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412-9088-467E-8B03-13C04DB4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CCC-C76E-4E66-9246-53FB7C3E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B68-8482-4912-9903-AD1636C5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95D-50D9-4971-91AE-FAC30B5A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A37-1759-4CE9-A2AE-30E6CA78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5C8-E848-4ECE-BB0A-2FE1CD58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293-6D49-4500-81B6-B9C9A653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209-C05B-4AA3-8BB3-0BFCEE59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DFB-A98B-4E76-B3E3-EED40BAB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07A-66BA-4310-B8FF-E3BF52E1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</a:t>
            </a:r>
            <a:fld id="{17918A26-44E1-45C1-8D56-6D73AB42A3B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E233-4ED9-4497-BF8C-E9B4FA03026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60280" y="1619280"/>
            <a:ext cx="633744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cc0000"/>
                </a:solidFill>
                <a:latin typeface="Calibri"/>
              </a:rPr>
              <a:t>LEVEL CROSSING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cc0000"/>
                </a:solidFill>
                <a:latin typeface="Calibri"/>
              </a:rPr>
              <a:t>AHEAD CLOSE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etwork Rail has closed Griffin Lane footpath crossing with permission from Buckinghamshire County Counci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is closure will be until further noti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n alternative route is available for use by way of the Griffin Lane railway overbrid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lease contact Network Rail Helpline 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03457 11 41 41 for more inform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81000" y="154080"/>
            <a:ext cx="6696000" cy="8835840"/>
          </a:xfrm>
          <a:prstGeom prst="rect">
            <a:avLst/>
          </a:prstGeom>
          <a:noFill/>
          <a:ln w="127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nwr"/>
          <p:cNvPicPr/>
          <p:nvPr/>
        </p:nvPicPr>
        <p:blipFill>
          <a:blip r:embed="rId1"/>
          <a:stretch/>
        </p:blipFill>
        <p:spPr>
          <a:xfrm>
            <a:off x="333360" y="560520"/>
            <a:ext cx="14954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15:12:36Z</dcterms:created>
  <dc:creator>PColton</dc:creator>
  <dc:description/>
  <dc:language>en-US</dc:language>
  <cp:lastModifiedBy>Parish Ben</cp:lastModifiedBy>
  <cp:lastPrinted>2016-11-09T15:44:44Z</cp:lastPrinted>
  <dcterms:modified xsi:type="dcterms:W3CDTF">2016-12-20T09:06:56Z</dcterms:modified>
  <cp:revision>32</cp:revision>
  <dc:subject>Netwrok Rail Standard</dc:subject>
  <dc:title>Slide 1</dc:title>
</cp:coreProperties>
</file>