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2801600" cy="9601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39720" y="16164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39720" y="5315400"/>
            <a:ext cx="1152216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39720" y="16164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39720" y="5315400"/>
            <a:ext cx="562248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543720" y="5315400"/>
            <a:ext cx="562248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39720" y="16164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370980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35280" y="2239920"/>
            <a:ext cx="370980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431200" y="2239920"/>
            <a:ext cx="370980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39720" y="5315400"/>
            <a:ext cx="370980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35280" y="5315400"/>
            <a:ext cx="370980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431200" y="5315400"/>
            <a:ext cx="370980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39720" y="16164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39720" y="2239920"/>
            <a:ext cx="1152216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39720" y="16164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5888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39720" y="16164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5888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5888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39720" y="16164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39720" y="16164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39720" y="16164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5888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39720" y="5315400"/>
            <a:ext cx="562248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39720" y="16164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39720" y="2239920"/>
            <a:ext cx="1152216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39720" y="16164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5888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543720" y="5315400"/>
            <a:ext cx="562248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9720" y="16164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39720" y="5315400"/>
            <a:ext cx="1152216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39720" y="16164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39720" y="5315400"/>
            <a:ext cx="1152216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39720" y="16164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39720" y="5315400"/>
            <a:ext cx="562248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543720" y="5315400"/>
            <a:ext cx="562248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39720" y="16164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370980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35280" y="2239920"/>
            <a:ext cx="370980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31200" y="2239920"/>
            <a:ext cx="370980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39720" y="5315400"/>
            <a:ext cx="370980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535280" y="5315400"/>
            <a:ext cx="370980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431200" y="5315400"/>
            <a:ext cx="370980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39720" y="16164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5888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39720" y="16164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5888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5888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39720" y="16164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39720" y="16164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39720" y="16164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5888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39720" y="5315400"/>
            <a:ext cx="562248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39720" y="16164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5888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43720" y="5315400"/>
            <a:ext cx="562248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39720" y="16164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39720" y="5315400"/>
            <a:ext cx="11522160" cy="280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9720" y="16164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2239920"/>
            <a:ext cx="11522160" cy="5888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ff99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ff99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ff99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ff99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ff99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936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3640" y="8744040"/>
            <a:ext cx="405432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39720" y="16164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39720" y="2239920"/>
            <a:ext cx="11522160" cy="5888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ff99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ff99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ff99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ff99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ff99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52" descr="plan"/>
          <p:cNvPicPr/>
          <p:nvPr/>
        </p:nvPicPr>
        <p:blipFill>
          <a:blip r:embed="rId1"/>
          <a:srcRect l="12572" t="24847" r="12572" b="12420"/>
          <a:stretch/>
        </p:blipFill>
        <p:spPr>
          <a:xfrm>
            <a:off x="1360440" y="1631880"/>
            <a:ext cx="10285560" cy="65451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57"/>
          <p:cNvSpPr/>
          <p:nvPr/>
        </p:nvSpPr>
        <p:spPr>
          <a:xfrm rot="2338800">
            <a:off x="7454520" y="7080120"/>
            <a:ext cx="504720" cy="465120"/>
          </a:xfrm>
          <a:prstGeom prst="rect">
            <a:avLst/>
          </a:prstGeom>
          <a:noFill/>
          <a:ln w="32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59" descr="Waiting Area south sketch"/>
          <p:cNvPicPr/>
          <p:nvPr/>
        </p:nvPicPr>
        <p:blipFill>
          <a:blip r:embed="rId2"/>
          <a:stretch/>
        </p:blipFill>
        <p:spPr>
          <a:xfrm>
            <a:off x="3722760" y="1244520"/>
            <a:ext cx="3752640" cy="30337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68"/>
          <p:cNvSpPr/>
          <p:nvPr/>
        </p:nvSpPr>
        <p:spPr>
          <a:xfrm rot="21113400">
            <a:off x="2677680" y="3105000"/>
            <a:ext cx="804960" cy="785880"/>
          </a:xfrm>
          <a:prstGeom prst="rect">
            <a:avLst/>
          </a:prstGeom>
          <a:noFill/>
          <a:ln cap="rnd" w="3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70"/>
          <p:cNvSpPr/>
          <p:nvPr/>
        </p:nvSpPr>
        <p:spPr>
          <a:xfrm flipV="1">
            <a:off x="4159080" y="3619080"/>
            <a:ext cx="152640" cy="19692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71"/>
          <p:cNvSpPr/>
          <p:nvPr/>
        </p:nvSpPr>
        <p:spPr>
          <a:xfrm flipV="1">
            <a:off x="4527720" y="3911760"/>
            <a:ext cx="164880" cy="20952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72"/>
          <p:cNvSpPr/>
          <p:nvPr/>
        </p:nvSpPr>
        <p:spPr>
          <a:xfrm>
            <a:off x="3983040" y="4327560"/>
            <a:ext cx="7526160" cy="106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t board to hide OLE gantry defining ‘gateway’ to Newcastle &amp; Carlisle and Settle &amp; Carlisle Rail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all new dwarf wall 1200mm high with glazed draught screens above to 2000mm overall h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ocate platform number totems to corners of new scr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pave area to match waiting area at North end of platform, install new seating and relocate snack vending mach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4"/>
          <p:cNvSpPr/>
          <p:nvPr/>
        </p:nvSpPr>
        <p:spPr>
          <a:xfrm>
            <a:off x="6691320" y="5415120"/>
            <a:ext cx="952560" cy="1914480"/>
          </a:xfrm>
          <a:prstGeom prst="line">
            <a:avLst/>
          </a:prstGeom>
          <a:ln w="1908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75"/>
          <p:cNvSpPr/>
          <p:nvPr/>
        </p:nvSpPr>
        <p:spPr>
          <a:xfrm>
            <a:off x="8005680" y="5429160"/>
            <a:ext cx="104760" cy="2067120"/>
          </a:xfrm>
          <a:prstGeom prst="line">
            <a:avLst/>
          </a:prstGeom>
          <a:ln w="1908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76"/>
          <p:cNvSpPr/>
          <p:nvPr/>
        </p:nvSpPr>
        <p:spPr>
          <a:xfrm>
            <a:off x="3989520" y="1243080"/>
            <a:ext cx="7507080" cy="3051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88"/>
          <p:cNvSpPr/>
          <p:nvPr/>
        </p:nvSpPr>
        <p:spPr>
          <a:xfrm>
            <a:off x="11387160" y="5924520"/>
            <a:ext cx="25704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BT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08"/>
          <p:cNvSpPr/>
          <p:nvPr/>
        </p:nvSpPr>
        <p:spPr>
          <a:xfrm rot="4989000">
            <a:off x="2923560" y="3976560"/>
            <a:ext cx="324000" cy="16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13"/>
          <p:cNvSpPr/>
          <p:nvPr/>
        </p:nvSpPr>
        <p:spPr>
          <a:xfrm>
            <a:off x="1255680" y="8300880"/>
            <a:ext cx="10398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lisle Station : Suggested Improvement Works to Passenger Fac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15" descr="RIMG0027"/>
          <p:cNvPicPr/>
          <p:nvPr/>
        </p:nvPicPr>
        <p:blipFill>
          <a:blip r:embed="rId3"/>
          <a:stretch/>
        </p:blipFill>
        <p:spPr>
          <a:xfrm>
            <a:off x="7351560" y="1270080"/>
            <a:ext cx="4137120" cy="30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4:11:54Z</dcterms:created>
  <dc:creator>nwright1</dc:creator>
  <dc:description/>
  <dc:language>en-US</dc:language>
  <cp:lastModifiedBy>klumley</cp:lastModifiedBy>
  <dcterms:modified xsi:type="dcterms:W3CDTF">2009-09-07T10:20:37Z</dcterms:modified>
  <cp:revision>31</cp:revision>
  <dc:subject/>
  <dc:title>Slide 1</dc:title>
</cp:coreProperties>
</file>