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972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3528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43120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39720" y="16164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972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3528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3120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9720" y="16164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ff99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ff99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lan"/>
          <p:cNvPicPr/>
          <p:nvPr/>
        </p:nvPicPr>
        <p:blipFill>
          <a:blip r:embed="rId1"/>
          <a:srcRect l="12572" t="24847" r="12572" b="12420"/>
          <a:stretch/>
        </p:blipFill>
        <p:spPr>
          <a:xfrm>
            <a:off x="1360440" y="1631880"/>
            <a:ext cx="10285560" cy="6545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 rot="2338800">
            <a:off x="7480080" y="7105320"/>
            <a:ext cx="504720" cy="360360"/>
          </a:xfrm>
          <a:prstGeom prst="rect">
            <a:avLst/>
          </a:prstGeom>
          <a:noFill/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Waiting Area North sketch"/>
          <p:cNvPicPr/>
          <p:nvPr/>
        </p:nvPicPr>
        <p:blipFill>
          <a:blip r:embed="rId2"/>
          <a:stretch/>
        </p:blipFill>
        <p:spPr>
          <a:xfrm>
            <a:off x="5373720" y="801720"/>
            <a:ext cx="3224160" cy="4305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6"/>
          <p:cNvSpPr/>
          <p:nvPr/>
        </p:nvSpPr>
        <p:spPr>
          <a:xfrm rot="21113400">
            <a:off x="2677680" y="3105000"/>
            <a:ext cx="804960" cy="785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V="1">
            <a:off x="4159080" y="3619080"/>
            <a:ext cx="152640" cy="19692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4527720" y="3911760"/>
            <a:ext cx="164880" cy="20952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8"/>
          <p:cNvSpPr/>
          <p:nvPr/>
        </p:nvSpPr>
        <p:spPr>
          <a:xfrm>
            <a:off x="5383080" y="787320"/>
            <a:ext cx="6239160" cy="43275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5376960" y="5151600"/>
            <a:ext cx="6253200" cy="10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existing metalwork around waiting area and replace with glazed draught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existing signage support with slim oval stainless steel-clad structure incorporating all signage and displays and featuring ‘halo’ lighting around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metal hoops from rear platform edge and replace with band of contrasting coloured pa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0"/>
          <p:cNvSpPr/>
          <p:nvPr/>
        </p:nvSpPr>
        <p:spPr>
          <a:xfrm rot="18571200">
            <a:off x="3487680" y="3845160"/>
            <a:ext cx="271440" cy="6516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"/>
          <p:cNvSpPr/>
          <p:nvPr/>
        </p:nvSpPr>
        <p:spPr>
          <a:xfrm rot="4989000">
            <a:off x="2923560" y="3976560"/>
            <a:ext cx="324000" cy="16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2190600" y="3610080"/>
            <a:ext cx="3591000" cy="2895480"/>
          </a:xfrm>
          <a:prstGeom prst="line">
            <a:avLst/>
          </a:prstGeom>
          <a:ln w="3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H="1">
            <a:off x="4320720" y="4460760"/>
            <a:ext cx="1065240" cy="800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H="1">
            <a:off x="3619440" y="2550960"/>
            <a:ext cx="1773360" cy="1344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 flipH="1">
            <a:off x="3438000" y="2311560"/>
            <a:ext cx="1968840" cy="936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1273320" y="8337600"/>
            <a:ext cx="80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isle Station : Suggested Improvement Works to Passenger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8" descr="RIMG0030"/>
          <p:cNvPicPr/>
          <p:nvPr/>
        </p:nvPicPr>
        <p:blipFill>
          <a:blip r:embed="rId3"/>
          <a:stretch/>
        </p:blipFill>
        <p:spPr>
          <a:xfrm>
            <a:off x="8410680" y="816120"/>
            <a:ext cx="3184560" cy="213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RIMG0038"/>
          <p:cNvPicPr/>
          <p:nvPr/>
        </p:nvPicPr>
        <p:blipFill>
          <a:blip r:embed="rId4"/>
          <a:stretch/>
        </p:blipFill>
        <p:spPr>
          <a:xfrm>
            <a:off x="8413920" y="2962440"/>
            <a:ext cx="31813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54Z</dcterms:created>
  <dc:creator>nwright1</dc:creator>
  <dc:description/>
  <dc:language>en-US</dc:language>
  <cp:lastModifiedBy>klumley</cp:lastModifiedBy>
  <dcterms:modified xsi:type="dcterms:W3CDTF">2009-09-07T10:20:00Z</dcterms:modified>
  <cp:revision>31</cp:revision>
  <dc:subject/>
  <dc:title>Slide 1</dc:title>
</cp:coreProperties>
</file>